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F1D6-0026-4BDE-8F63-510FD37B8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A1A3-0021-4486-9765-E2BB5E1F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B983-16E1-4292-A8FF-D3F42F812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9BDC-06AC-4CC2-B7E9-3E38FF80E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942A-B43E-4B73-9F8E-5BE86B77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3FD9-1115-44DF-B7A2-523D1EE2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8348-7194-4A34-B7A8-5604C854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8B5E-9129-4466-A85F-A57510C6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A5D9-F594-4CC2-8F17-4A319982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3153-C92F-4560-A3A1-CFE36390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875B-81D5-4963-9290-ED07FF19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FD18-6480-4196-AA6C-3DE900B1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2C0E-ED3B-4E97-A92E-5C07BA1EA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3280" y="1557360"/>
            <a:ext cx="3960720" cy="2736720"/>
          </a:xfrm>
          <a:prstGeom prst="flowChartExtract">
            <a:avLst/>
          </a:prstGeom>
          <a:solidFill>
            <a:srgbClr val="ffff00"/>
          </a:solidFill>
          <a:ln w="92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981000"/>
            <a:ext cx="230328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Phase 1 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This is the 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WHY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 – why we are examining learning in our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End Result: 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a definition of the characteristics of 21C Lear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508720" y="836640"/>
            <a:ext cx="3456000" cy="29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99cc00"/>
                </a:solidFill>
                <a:latin typeface="Arial"/>
              </a:rPr>
              <a:t>Phas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This is the 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 -  how are we going to develop programmes that meet the needs of 21C Learners and reflect the OPS Core Valu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This is where the Inquiry process comes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End Result: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 a Learning Map/Framework that is a plan of our approach to student learn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4437000"/>
            <a:ext cx="712800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9999"/>
                </a:solidFill>
                <a:latin typeface="Arial"/>
              </a:rPr>
              <a:t>                               </a:t>
            </a:r>
            <a:r>
              <a:rPr b="1" lang="en-NZ" sz="1800" spc="-1" strike="noStrike">
                <a:solidFill>
                  <a:srgbClr val="009999"/>
                </a:solidFill>
                <a:latin typeface="Arial"/>
              </a:rPr>
              <a:t>Phase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This is the 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 – what do we want our learner to have in their head and their heart? What do we value as important in terms of Values, Skills and Knowledg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End Result: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 8-10 Core Values – statements that define what student learning is all about at our school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This is what OPS unique. These will be reflected in our Char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71640" y="2637000"/>
            <a:ext cx="12956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66"/>
                </a:solidFill>
                <a:latin typeface="Arial"/>
              </a:rPr>
              <a:t>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66"/>
                </a:solidFill>
                <a:latin typeface="Arial"/>
              </a:rPr>
              <a:t>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1619280" y="1700280"/>
            <a:ext cx="1440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2852640"/>
            <a:ext cx="86364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5651640" y="3428640"/>
            <a:ext cx="1008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Examples of Core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cho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t X school we believe that responsibility, independence, initiative, common sense and perseverance are essential life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chool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XYZ school values the fostering of creativity in its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chool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 u="sng">
                <a:solidFill>
                  <a:srgbClr val="000000"/>
                </a:solidFill>
                <a:uFillTx/>
                <a:latin typeface="Arial"/>
              </a:rPr>
              <a:t>At B school we value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- Knowledge through Curriculum - About my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- About my community - About my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- About my world and bey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rom this weeks newsle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BOARD OF TRUSTEES N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      …… </a:t>
            </a: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a major project for us for this year is to review our </a:t>
            </a:r>
            <a:r>
              <a:rPr b="1" i="1" lang="en-NZ" sz="2000" spc="-1" strike="noStrike">
                <a:solidFill>
                  <a:srgbClr val="000000"/>
                </a:solidFill>
                <a:latin typeface="Arial"/>
              </a:rPr>
              <a:t>schools charter</a:t>
            </a: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 document that which includes the schools’ purpose, vision, </a:t>
            </a:r>
            <a:r>
              <a:rPr b="1" i="1" lang="en-NZ" sz="2000" spc="-1" strike="noStrike">
                <a:solidFill>
                  <a:srgbClr val="000000"/>
                </a:solidFill>
                <a:latin typeface="Arial"/>
              </a:rPr>
              <a:t>values,</a:t>
            </a: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 and strategic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 charter articulates what our school is all about – what does it actually say about what we value as important in terms of student learn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All good stuff in the charter but…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hat do we value as important in terms of student learning? Can we see that in our char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dding Core Values will define what we believe is important in terms of student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learly defined Core Values will allow students parents, staff and the wider community to know what learning is based on at 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1:30:30Z</dcterms:created>
  <dc:creator>Ministry of Education</dc:creator>
  <dc:description/>
  <dc:language>en-US</dc:language>
  <cp:lastModifiedBy>Ministry of Education</cp:lastModifiedBy>
  <dcterms:modified xsi:type="dcterms:W3CDTF">2008-06-04T01:11:07Z</dcterms:modified>
  <cp:revision>22</cp:revision>
  <dc:subject/>
  <dc:title>Slide 1</dc:title>
</cp:coreProperties>
</file>