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0AF-725B-424A-B331-C486AE35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A40-84B5-49DA-9ACB-D5CBE107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37C-C879-4F9B-8D7E-7D31270C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ED0-82A5-4A3C-81E4-44A384ED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9A0-042F-4642-9E90-8A92BDE2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53C-FDD6-4F1C-93F9-21622119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1350-9EEE-47ED-B7F2-1E4388D5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41C-B6C8-4301-9800-BF5D48FF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4A6-FD74-47DB-AA6C-3B903445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C8F-0AEC-424F-8490-E24DE72F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064-C82E-4142-B04A-57E7DFFA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BB2-54EE-4809-A048-F0D2C8EE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CD80-365C-4050-81BF-68D35EFDC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1557360"/>
            <a:ext cx="3960720" cy="2736720"/>
          </a:xfrm>
          <a:prstGeom prst="flowChartExtract">
            <a:avLst/>
          </a:prstGeom>
          <a:solidFill>
            <a:srgbClr val="ffff00"/>
          </a:solidFill>
          <a:ln w="92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981000"/>
            <a:ext cx="230328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Phase 1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– why we are examining learning in our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a definition of the characteristics of 21C 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08720" y="836640"/>
            <a:ext cx="345600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99cc00"/>
                </a:solidFill>
                <a:latin typeface="Arial"/>
              </a:rPr>
              <a:t>Ph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-  how are we going to develop programmes that meet the needs of 21C Learners and reflect the OPS Core Valu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where the Inquiry process come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a Learning Map/Framework that is a plan of our approach to student learn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437000"/>
            <a:ext cx="71280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9999"/>
                </a:solidFill>
                <a:latin typeface="Arial"/>
              </a:rPr>
              <a:t>                               </a:t>
            </a:r>
            <a:r>
              <a:rPr b="1" lang="en-NZ" sz="1800" spc="-1" strike="noStrike">
                <a:solidFill>
                  <a:srgbClr val="009999"/>
                </a:solidFill>
                <a:latin typeface="Arial"/>
              </a:rPr>
              <a:t>Phas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– what do we want our learner to have in their head and their heart? What do we value as important in terms of Values, Skills and Knowled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8-10 Core Values – statements that define what student learning is all about at our schoo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what OPS unique. These will be reflected in our Char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637000"/>
            <a:ext cx="1295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619280" y="1700280"/>
            <a:ext cx="1440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852640"/>
            <a:ext cx="8636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651640" y="3428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xamples of Core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t X school we believe that responsibility, independence, initiative, common sense and perseverance are essential life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XYZ school values the fostering of creativity in its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 u="sng">
                <a:solidFill>
                  <a:srgbClr val="000000"/>
                </a:solidFill>
                <a:uFillTx/>
                <a:latin typeface="Arial"/>
              </a:rPr>
              <a:t>At B school we value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Knowledge through Curriculum - About my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About my community - About my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About my world and bey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rom this weeks news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OARD OF TRUSTEES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     …… 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 major project for us for this year is to review our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schools charter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document that which includes the schools’ purpose, vision,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values,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and strategic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 charter articulates what our school is all about – what does it actually say about what we value as important in terms of student lear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ll good stuff in the charter but…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do we value as important in terms of student learning? Can we see that in our char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dding Core Values will define what we believe is important in terms of studen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learly defined Core Values will allow students parents, staff and the wider community to know what learning is based on at 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1:30:30Z</dcterms:created>
  <dc:creator>Ministry of Education</dc:creator>
  <dc:description/>
  <dc:language>en-US</dc:language>
  <cp:lastModifiedBy>Ministry of Education</cp:lastModifiedBy>
  <dcterms:modified xsi:type="dcterms:W3CDTF">2008-06-04T01:11:07Z</dcterms:modified>
  <cp:revision>22</cp:revision>
  <dc:subject/>
  <dc:title>Slide 1</dc:title>
</cp:coreProperties>
</file>