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056438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9F07-D753-4FE0-986B-715F6E1B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79160"/>
            <a:ext cx="90741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DDA-F2D4-4CBD-819E-3A0EF2EB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7D7-AC43-4408-AFE8-8191659F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64628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64628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7916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07916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07916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EACA-4B1C-48AF-AA5B-6A9C0152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2B79-0584-4F83-8A62-3A390EBE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4458-3776-4336-8BD5-8ACE6560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5828-35F8-458A-93EB-DAB0BC54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8AB-839F-41FF-B999-B53804A2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82600"/>
            <a:ext cx="907416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C455-33F6-4B6A-9737-418D4DD8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585-2BB9-4EAE-9177-6A809548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2C0-8E92-4FD8-BD90-9E814886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79160"/>
            <a:ext cx="90741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F26-16B9-4F7E-B4B4-722593D9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24000" indent="-2444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462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203560" indent="-2462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203560" indent="-2462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203560" indent="-2462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426360"/>
            <a:ext cx="2354400" cy="490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426360"/>
            <a:ext cx="3191040" cy="490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3040" y="6426360"/>
            <a:ext cx="2354400" cy="490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6570FB1-30A2-4C61-B1C8-17F71AAB4E1A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NZ" sz="3400" spc="-1" strike="noStrike">
                <a:solidFill>
                  <a:srgbClr val="000000"/>
                </a:solidFill>
                <a:latin typeface="Arial"/>
              </a:rPr>
              <a:t>Levels of Inqui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Arial"/>
              </a:rPr>
              <a:t>Guid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Arial"/>
              </a:rPr>
              <a:t>Negotiat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165200">
            <a:off x="5616360" y="1368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Lucida Handwriting"/>
              </a:rPr>
              <a:t>Keep i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599600">
            <a:off x="2664360" y="4463640"/>
            <a:ext cx="46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200" spc="-1" strike="noStrike">
                <a:solidFill>
                  <a:srgbClr val="3366ff"/>
                </a:solidFill>
                <a:latin typeface="Comic Sans MS"/>
              </a:rPr>
              <a:t>Go for depth not  brea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6000" spc="-1" strike="noStrike">
                <a:solidFill>
                  <a:srgbClr val="0000ff"/>
                </a:solidFill>
                <a:latin typeface="Comic Sans MS"/>
              </a:rPr>
              <a:t>Guided Inqui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6360" y="3311640"/>
            <a:ext cx="900108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600" spc="-1" strike="noStrike">
                <a:solidFill>
                  <a:srgbClr val="3333ff"/>
                </a:solidFill>
                <a:latin typeface="Arial"/>
              </a:rPr>
              <a:t>*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3600" spc="-1" strike="noStrike">
                <a:solidFill>
                  <a:srgbClr val="000000"/>
                </a:solidFill>
                <a:latin typeface="Arial"/>
              </a:rPr>
              <a:t>What planning must I do?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(Disregard the ‘no-planning myth’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424400">
            <a:off x="4836600" y="253692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Lucida Handwriting"/>
              </a:rPr>
              <a:t>What do I want them to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4520" y="268200"/>
            <a:ext cx="5956200" cy="6222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08600" y="712800"/>
            <a:ext cx="3133800" cy="39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at about……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at if…………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at do you think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How do/would…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I wonder……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o/when/why/i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6680" y="1527120"/>
            <a:ext cx="1269720" cy="828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otiv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1160" y="787320"/>
            <a:ext cx="1430280" cy="666720"/>
          </a:xfrm>
          <a:custGeom>
            <a:avLst/>
            <a:gdLst/>
            <a:ahLst/>
            <a:rect l="l" t="t" r="r" b="b"/>
            <a:pathLst>
              <a:path w="771" h="408">
                <a:moveTo>
                  <a:pt x="0" y="408"/>
                </a:moveTo>
                <a:cubicBezTo>
                  <a:pt x="49" y="249"/>
                  <a:pt x="98" y="90"/>
                  <a:pt x="226" y="45"/>
                </a:cubicBezTo>
                <a:cubicBezTo>
                  <a:pt x="354" y="0"/>
                  <a:pt x="673" y="121"/>
                  <a:pt x="771" y="136"/>
                </a:cubicBezTo>
              </a:path>
            </a:pathLst>
          </a:custGeom>
          <a:noFill/>
          <a:ln w="698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0154600">
            <a:off x="6051600" y="5229000"/>
            <a:ext cx="333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Lucida Handwriting"/>
              </a:rPr>
              <a:t>Go for depth of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6000" y="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u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Authentic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"/>
              </a:rPr>
              <a:t>Valid foc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400" spc="-1" strike="noStrike">
                <a:solidFill>
                  <a:srgbClr val="9966ff"/>
                </a:solidFill>
                <a:latin typeface="Comic Sans MS"/>
              </a:rPr>
              <a:t>What planets are in spac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400" spc="-1" strike="noStrike">
                <a:solidFill>
                  <a:srgbClr val="9966ff"/>
                </a:solidFill>
                <a:latin typeface="Comic Sans MS"/>
              </a:rPr>
              <a:t>Why / How do we have night and da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31640" y="122400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lin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antly revisiting previous whe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reviewing, revisiting, questioning throughout the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‘right’ answers.  Tentative point of view to be investig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31640" y="3529080"/>
            <a:ext cx="89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tter wonderings leading to ques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form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makes a list of main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to get you started in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3640" y="431640"/>
            <a:ext cx="8713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t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m interested, raise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derings, questions, gener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tell them ahead of time what yo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going to do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r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36720" y="360360"/>
            <a:ext cx="8640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liminary knowledge /Te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this children can’t ask inform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or in-dep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important –Lyn Ross and Mark Tread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7640" y="244800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ertile / Key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s help a key or fertile question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ed and then subsidiary ques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d, Keeping the focus narrow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able and in-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280" y="518472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int of view – 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response or point of view even if wrong -this gets them thin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60360" y="190440"/>
            <a:ext cx="92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earch –discovery –expe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not to try and find the answer but to gain deeper understanding and knowledge as you continually focus on the key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6000" y="2664000"/>
            <a:ext cx="94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ider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we got a reasonable understanding or point of view to talk constructively about the key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7280" y="4402080"/>
            <a:ext cx="9360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are /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be a few pictures, posters, a lot of oral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that impacts other or that you can apply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79640" y="-274680"/>
            <a:ext cx="8064360" cy="76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3319" t="506" r="0" b="0"/>
          <a:stretch/>
        </p:blipFill>
        <p:spPr>
          <a:xfrm>
            <a:off x="863640" y="576360"/>
            <a:ext cx="864864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1439640"/>
            <a:ext cx="9074160" cy="2592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Inquiry Learni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rot="329400">
            <a:off x="-374400" y="-864720"/>
            <a:ext cx="11449080" cy="4392360"/>
          </a:xfrm>
          <a:prstGeom prst="irregularSeal2">
            <a:avLst/>
          </a:prstGeom>
          <a:solidFill>
            <a:srgbClr val="99ffcc"/>
          </a:solidFill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3280" y="431640"/>
            <a:ext cx="885672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Monotype Corsiva"/>
              </a:rPr>
              <a:t>How do I keep from getting </a:t>
            </a:r>
            <a:r>
              <a:rPr b="0" lang="en-US" sz="6600" spc="-1" strike="noStrike">
                <a:solidFill>
                  <a:srgbClr val="008000"/>
                </a:solidFill>
                <a:latin typeface="Monotype Corsiva"/>
              </a:rPr>
              <a:t>Green </a:t>
            </a:r>
            <a:r>
              <a:rPr b="0" lang="en-US" sz="9600" spc="-1" strike="noStrike">
                <a:solidFill>
                  <a:srgbClr val="006600"/>
                </a:solidFill>
                <a:latin typeface="Chiller"/>
              </a:rPr>
              <a:t>Snot</a:t>
            </a:r>
            <a:r>
              <a:rPr b="0" lang="en-US" sz="6600" spc="-1" strike="noStrike">
                <a:solidFill>
                  <a:srgbClr val="006600"/>
                </a:solidFill>
                <a:latin typeface="comic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77080" y="453708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Why is it gr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67200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What do I do  to help others to not g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"/>
              </a:rPr>
              <a:t>Green S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7280" y="5400720"/>
            <a:ext cx="56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hat is a virus and how do I not ge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61080" y="309564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Comic Sans MS"/>
              </a:rPr>
              <a:t>What do I do to not get the fl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14920" y="590400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Does medicin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Group 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657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2 ways depending on aim and childr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640" y="489600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ame questio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47640" y="3311640"/>
            <a:ext cx="43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510920" y="3311640"/>
            <a:ext cx="73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16000" y="338472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2360" y="3529080"/>
            <a:ext cx="216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35640" y="2808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Abilit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9280" y="5472000"/>
            <a:ext cx="87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Regular / daily feed back of new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onstantly refer to the questions on the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6360" y="266400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Mixed groups or abilit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88000" y="504036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Grad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904000" y="3456000"/>
            <a:ext cx="50328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768720" y="3384720"/>
            <a:ext cx="1429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43640" y="3384720"/>
            <a:ext cx="180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20000" y="3456000"/>
            <a:ext cx="21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202000">
            <a:off x="287640" y="43128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Go for depth not qua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053200">
            <a:off x="3416400" y="282528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Keep it simple- go for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92000" y="216072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HINAONE"/>
              </a:rPr>
              <a:t>Good Luck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2000" y="439272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 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03280" y="3024360"/>
            <a:ext cx="9074160" cy="3279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nquiry is about having a question worth finding out about and then putting energy into finding ou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o help children be creative, analytical and responsive learn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What is Inquiry Learn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9280" y="1511280"/>
            <a:ext cx="89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quiry learning is a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etho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b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us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not t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4800" spc="-1" strike="noStrike">
                <a:solidFill>
                  <a:srgbClr val="ff0066"/>
                </a:solidFill>
                <a:latin typeface="Arial"/>
              </a:rPr>
              <a:t>What it is N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645920"/>
            <a:ext cx="9074160" cy="4978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Making a PowerPoint document with great pictures and transitions and other gimmic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utting stuff into a Topic Book and making it look pret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 place for individual wor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6000" y="0"/>
            <a:ext cx="7056360" cy="705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240000" y="4103640"/>
            <a:ext cx="6505560" cy="27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is is an astronaut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lying to Venus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omic Sans MS"/>
              </a:rPr>
              <a:t>What it 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is</a:t>
            </a:r>
            <a:r>
              <a:rPr b="0" i="1" lang="en-US" sz="4800" spc="-1" strike="noStrike">
                <a:solidFill>
                  <a:srgbClr val="000000"/>
                </a:solidFill>
                <a:latin typeface="Comic Sans MS"/>
              </a:rPr>
              <a:t> abo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439640"/>
            <a:ext cx="9074160" cy="5113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3333ff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3333ff"/>
                </a:solidFill>
                <a:latin typeface="Comic Sans MS"/>
              </a:rPr>
              <a:t>Talk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shar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>
                <a:solidFill>
                  <a:srgbClr val="a50021"/>
                </a:solidFill>
                <a:latin typeface="Arial"/>
              </a:rPr>
              <a:t>question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>
                <a:solidFill>
                  <a:srgbClr val="ff00ff"/>
                </a:solidFill>
                <a:latin typeface="Arial"/>
              </a:rPr>
              <a:t>finding ou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 u="sng">
                <a:solidFill>
                  <a:srgbClr val="660066"/>
                </a:solidFill>
                <a:uFillTx/>
                <a:latin typeface="Arial"/>
              </a:rPr>
              <a:t>adjusting/refin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ff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ff0066"/>
                </a:solidFill>
                <a:latin typeface="Arial"/>
              </a:rPr>
              <a:t>shar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talking and questioning and finding out and adjusting/refining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a50021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a50021"/>
                </a:solidFill>
                <a:latin typeface="Arial"/>
              </a:rPr>
              <a:t>question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sharing and talking and finding out and adjusting/refining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ff00ff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ff00ff"/>
                </a:solidFill>
                <a:latin typeface="Arial"/>
              </a:rPr>
              <a:t>finding ou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talking and questioning and sharing and adjusting/refining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1640" y="863640"/>
            <a:ext cx="9074160" cy="5400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7000"/>
          </a:bodyPr>
          <a:p>
            <a:pPr marL="357120" indent="-35712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hildren to 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2952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Thin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2952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ritical, creative, analytical thin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2952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olaborative workers/thin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0360" y="107964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sooner we remove the focus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in some cases the paranoia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n written language being the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munication tool for adults (and kids)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sooner we can communicate more effectively and more efficiently our ideas, concerns and our vis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36320" y="934920"/>
            <a:ext cx="9070920" cy="5329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adjusting/refining/extend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inking can only be accomplished through talking as children engage with each other and discuss the concept or id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need to note that w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t Higher Order Thinking through lots of written work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000" spc="-1" strike="noStrike">
                <a:solidFill>
                  <a:srgbClr val="ff3300"/>
                </a:solidFill>
                <a:latin typeface="Comic Sans MS"/>
              </a:rPr>
              <a:t>Asking tough questions can often be derailed by having to write about it.  It is the talking, thinking and learning that is important and not the written stuf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22:09:54Z</dcterms:created>
  <dc:creator>Administrator</dc:creator>
  <dc:description/>
  <dc:language>en-US</dc:language>
  <cp:lastModifiedBy>Administrator</cp:lastModifiedBy>
  <dcterms:modified xsi:type="dcterms:W3CDTF">2008-07-31T02:17:19Z</dcterms:modified>
  <cp:revision>31</cp:revision>
  <dc:subject/>
  <dc:title>What is Inquiry Learning?</dc:title>
</cp:coreProperties>
</file>