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6C2C-4D6A-4F0F-B621-0F3BE50A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34BB-37DC-4B98-85CC-6C50A84D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324E-DFF6-49C4-80FF-9C77F5D60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13C3-2911-4E4C-871F-3D51A5172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3610-69C2-4B92-9304-0040C783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1ED9-0C7A-41DD-9470-F1F27E18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1E59-B170-4D35-B024-E2F34DDE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719B-D0FA-43B9-8D4F-3C98556B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1EAA-8A34-4940-8A06-B40F0625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E6D6-ECD1-4AEC-ADC7-7C6E2C0A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9BEF-E7F0-4472-BE5B-3D3084FF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F5D1-3E50-47CC-A7F2-5CC391B4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8BC9-7575-4B88-B883-D5B07F53D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41324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8100720" cy="60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6000" y="21600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8360" y="347760"/>
            <a:ext cx="8136000" cy="61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734364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26920" y="347760"/>
            <a:ext cx="784872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734364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55760" y="333360"/>
            <a:ext cx="47404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09760" y="1714680"/>
            <a:ext cx="8124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729936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35344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40000" y="260280"/>
            <a:ext cx="49370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44000" cy="61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702000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709308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00:20:25Z</dcterms:created>
  <dc:creator>Ministry of Education</dc:creator>
  <dc:description/>
  <dc:language>en-US</dc:language>
  <cp:lastModifiedBy>Ministry of Education</cp:lastModifiedBy>
  <dcterms:modified xsi:type="dcterms:W3CDTF">2009-03-10T07:09:16Z</dcterms:modified>
  <cp:revision>3</cp:revision>
  <dc:subject/>
  <dc:title>Slide 1</dc:title>
</cp:coreProperties>
</file>