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D16-D0C7-4490-94DD-87971976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475-458A-466C-9F74-364F2DB0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F18C-4290-42F7-AB1F-98EBC7C0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901D-FA91-4F83-ABDA-DC00CCE8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0C96-4E57-47D2-93A6-F62DC2C5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A37-D978-4E62-BF77-DD984CB9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FC26-D37E-4CCF-A407-236D6835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644-1A20-441D-B578-789B24D8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5FD-2D11-4158-8FA4-BEBF1D3F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180-5794-4F1C-AA68-39DD73E9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6D9-F696-46BB-AC24-4F549960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B0D-51F6-40DE-9555-2F3DD98E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444A-3B41-4F8D-875A-48BFF6136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4132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810072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00" y="21600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347760"/>
            <a:ext cx="813600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3436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347760"/>
            <a:ext cx="784872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3436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55760" y="333360"/>
            <a:ext cx="4740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9760" y="1714680"/>
            <a:ext cx="8124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29936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35344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9370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4400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020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709308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0:20:25Z</dcterms:created>
  <dc:creator>Ministry of Education</dc:creator>
  <dc:description/>
  <dc:language>en-US</dc:language>
  <cp:lastModifiedBy>Ministry of Education</cp:lastModifiedBy>
  <dcterms:modified xsi:type="dcterms:W3CDTF">2009-03-10T07:09:16Z</dcterms:modified>
  <cp:revision>3</cp:revision>
  <dc:subject/>
  <dc:title>Slide 1</dc:title>
</cp:coreProperties>
</file>