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928-BB9A-47DE-B9FC-126819B3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548-5313-4583-B4AD-B1FC0BA7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C86-C252-49E3-AC88-F2EC3470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C65-985A-43DD-B9D1-C5CE1B56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327-76A2-4D37-B753-C08CE256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221-9D99-422C-B9FE-6F1A864F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A58-915B-4A6D-8DF3-429CDD52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754-3DA1-4B20-81BA-B6A2F2C1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3C7-02C6-44A7-AD3D-CCEBBB2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878-225E-476E-8D90-5C4A6AD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1F6-1857-423E-8FC2-43E50E67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78C-E0A0-42CD-95A1-85BBC13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BE8-2419-4648-9B81-82A5BB15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413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007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21600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347760"/>
            <a:ext cx="8136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347760"/>
            <a:ext cx="7848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5760" y="333360"/>
            <a:ext cx="4740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1714680"/>
            <a:ext cx="812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99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53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9370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44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020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7093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0:20:25Z</dcterms:created>
  <dc:creator>Ministry of Education</dc:creator>
  <dc:description/>
  <dc:language>en-US</dc:language>
  <cp:lastModifiedBy>Ministry of Education</cp:lastModifiedBy>
  <dcterms:modified xsi:type="dcterms:W3CDTF">2009-03-10T07:09:16Z</dcterms:modified>
  <cp:revision>3</cp:revision>
  <dc:subject/>
  <dc:title>Slide 1</dc:title>
</cp:coreProperties>
</file>