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0D1B-2D5F-4E5D-B86B-A160B5D78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BE84-2F5B-4385-B9E4-05A3AD03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B2E8-6B6A-4890-8501-91D5FFE2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A8E3-8958-47C1-9926-DB86059FE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317D-2E30-4073-8E8C-6B2E0A76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D678-0861-4CF7-A84F-0C66D8C5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A4D8-E536-401F-A17F-F818586F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748B-10A2-4686-B47D-CD08ADC3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76A5-8C3B-457E-BEB4-73B4AB79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46A0-3FE1-45B2-8272-8606F456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2190-3D3D-4063-B330-D62DB8FF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F5A1-9C4B-4F6D-9837-AF0CA3E6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CC9F-061D-49E8-A53A-8E342B621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41324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8100720" cy="60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6000" y="21600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8360" y="347760"/>
            <a:ext cx="8136000" cy="61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734364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26920" y="347760"/>
            <a:ext cx="784872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734364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55760" y="333360"/>
            <a:ext cx="47404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09760" y="1714680"/>
            <a:ext cx="8124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729936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35344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40000" y="260280"/>
            <a:ext cx="49370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44000" cy="61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702000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709308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00:20:25Z</dcterms:created>
  <dc:creator>Ministry of Education</dc:creator>
  <dc:description/>
  <dc:language>en-US</dc:language>
  <cp:lastModifiedBy>Ministry of Education</cp:lastModifiedBy>
  <dcterms:modified xsi:type="dcterms:W3CDTF">2009-03-10T07:09:16Z</dcterms:modified>
  <cp:revision>3</cp:revision>
  <dc:subject/>
  <dc:title>Slide 1</dc:title>
</cp:coreProperties>
</file>