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8E2-2B17-4782-ADD8-30387C3F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BD5-992A-4327-8A49-E565FD0D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DE3-31FF-416A-849C-C5CFD5BE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F4D-05F0-4F40-B560-CBECF01A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F02-FAF0-4DC2-BC00-EE9C3F6A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684-5623-41D0-80F0-F6473B3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C37-8AC0-4A1F-8017-64FBEEE1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5E6-698B-4985-8A8A-1BC473E8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A00-9273-42E2-813C-61B387B4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B2E-8FB3-4C82-95BC-6ADD940F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2B1-C000-4C2C-B66B-D4C0D0CE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F06-376C-4A3A-BF3F-517A92C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AE2F-EC67-4A0F-B8EA-27679EEB0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4132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1007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21600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347760"/>
            <a:ext cx="81360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347760"/>
            <a:ext cx="78487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55760" y="333360"/>
            <a:ext cx="4740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1714680"/>
            <a:ext cx="812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2993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53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9370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4400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020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7093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0:20:25Z</dcterms:created>
  <dc:creator>Ministry of Education</dc:creator>
  <dc:description/>
  <dc:language>en-US</dc:language>
  <cp:lastModifiedBy>Ministry of Education</cp:lastModifiedBy>
  <dcterms:modified xsi:type="dcterms:W3CDTF">2009-03-10T07:09:16Z</dcterms:modified>
  <cp:revision>3</cp:revision>
  <dc:subject/>
  <dc:title>Slide 1</dc:title>
</cp:coreProperties>
</file>