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D30-8F90-4581-AC13-4D5A3E34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AB2-D8C3-451E-B0E5-7E3CE7EF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4A4-B7AC-4A46-9EF3-683638DB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4EA-F3C0-4A0D-B956-AA136F29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531-3461-4C9B-8EB9-22E8FCB8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DFB-1D7F-4C5A-A9EA-89BFE15D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A1A-2690-42A8-A7B4-DDBAF942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B56-9ED1-4C81-9118-3F30FF71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E90-8BA4-47E3-9E95-315026DB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BB9-9722-4AFF-AED2-F233921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20D-05B7-450C-84FD-E59550CE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393-81E1-4DCA-BCDC-061C002A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FAB9-3FEE-4027-8DA0-DF2908F4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zherald.co.nz/" TargetMode="External"/><Relationship Id="rId2" Type="http://schemas.openxmlformats.org/officeDocument/2006/relationships/hyperlink" Target="http://www.9news.com/" TargetMode="External"/><Relationship Id="rId3" Type="http://schemas.openxmlformats.org/officeDocument/2006/relationships/hyperlink" Target="http://www.stuff.co.nz/" TargetMode="External"/><Relationship Id="rId4" Type="http://schemas.openxmlformats.org/officeDocument/2006/relationships/hyperlink" Target="http://www.tonyryan.com.au/" TargetMode="External"/><Relationship Id="rId5" Type="http://schemas.openxmlformats.org/officeDocument/2006/relationships/hyperlink" Target="http://questioning.org/qtech.html" TargetMode="External"/><Relationship Id="rId6" Type="http://schemas.openxmlformats.org/officeDocument/2006/relationships/hyperlink" Target="http://ictnz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revor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hildren take photos from different perspectives – ants viewpoi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My Dream – picture of a car – what would it feel like to own i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 picture of two people – children write a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4 photos children sequence them to create a story – put in an odd one out – where would you put it? 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Use a photo for stimulus – a story starter, a setting, a character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Rip a small hole in a covered photo – what could it be?  Why do you think that?  Rip another hole each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I spy books – children take photos and explain what can be 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lphabet books – take photos of every let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ounting books – photo of a numbers of th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Photos of children – describe themselves or write a who am I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Photos of children – cut in half they draw the other ha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utumn poems with photos – Powerpoint with children reading their poems beh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Make digital stories for buddy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zherald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9new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tuff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onyryan.com.au</a:t>
            </a: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questioning.org/qte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ctnz.com/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- Trevor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y do we do inqui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quiry develops life long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ooks different at eve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control (Gui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negotiat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beside learner – learner directed (P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oal – Every child becomes an Independent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a goal NOT a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elebrate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understoo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NOT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reate a poster that explains the 7 decorative themes of art deco. Share your poster with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:  Find info about 7 themes and present it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Teacher directed but celebrating th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topic is art deco. Find an area you’re are interested in research it and presen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: chose area and present it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celebrate the found but pupil 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reate a poster utilising 5 of the 7 decorative themes of art deco, advertising the upcoming art deco weekend.  Use at least 3 major advertising techniques in your poster.  Share your poster with class mates and explain your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 research themes but then use the info to create a poster, also research use and apply advertising techniques.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Teacher directed but celebrating the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ard to find a learner directed area to study – this is the end point after a wealth of experience.  Children try but will produce a celebration of the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quiry is a Journey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t takes 4 to 13 years to move from teacher directed to negotiated to learner direc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ear 7 and 8 children may still be at teacher directed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quiry is about learning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ood inquiry scaffolds children to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ood inquiry forces student to use and apply information not just pres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Various Mode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A goo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mmersion happens through out you do not need to pre immerse or pre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et a task or a problem, you do not always need a question. The task will lead us to application, a question doesn’t always – You can answer the question without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ask or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pplication - do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udent shares thinking, decision making and justifications – or why it didn’t work. What did I do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71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uniors – use people and images not reading.  Deep inquiry based around images.  Ask expert to talk to the children – You are able to do powerful inquiry with jun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ke Journals available to children! Children becoming more in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t takes a lot of time to prepare a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inqui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lan a term ahe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lect resources and develop research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on’t give children good websites give them th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that will find the good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caffold children in finding ke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ternet Research - Children always write questions – questions are the shopping list that they take to the information supermarket (Intern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o not print out lots of information. Just FIND THE ANSWER TO THE QUES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hotos Ga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newspaper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swer who, what, when where (lower o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igher order what happened next, why did it happen, when could it have happened, what could have been done to prevent it happ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hats to look at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6:41:56Z</dcterms:created>
  <dc:creator>Ministry of Education</dc:creator>
  <dc:description/>
  <dc:language>en-US</dc:language>
  <cp:lastModifiedBy>Ministry of Education</cp:lastModifiedBy>
  <dcterms:modified xsi:type="dcterms:W3CDTF">2009-03-11T00:42:42Z</dcterms:modified>
  <cp:revision>9</cp:revision>
  <dc:subject/>
  <dc:title>Slide 1</dc:title>
</cp:coreProperties>
</file>