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A14-76DC-4279-AA95-6450665E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EBE-22B1-42BF-9C46-6C917F9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BB5-CAE1-450D-B99C-8DEB7954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8F9-B6A2-451D-9F97-4944B5FB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C2D-3733-4DD1-8152-5A729A6E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C1D-31BE-47DC-9FE9-E1F94711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859-0E7B-4267-93B0-19A0DAAE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1EA-6C70-4A24-B7B2-7B989D83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90C-4650-439A-813B-478D0E40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CA0-AD42-4D22-B9F3-A032010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DB6-C6F0-4FBA-B145-6D3328D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D45-C463-4BAB-98F5-D623DC9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DD4E-3D09-4569-B812-E3F9A767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zherald.co.nz/" TargetMode="External"/><Relationship Id="rId2" Type="http://schemas.openxmlformats.org/officeDocument/2006/relationships/hyperlink" Target="http://www.9news.com/" TargetMode="External"/><Relationship Id="rId3" Type="http://schemas.openxmlformats.org/officeDocument/2006/relationships/hyperlink" Target="http://www.stuff.co.nz/" TargetMode="External"/><Relationship Id="rId4" Type="http://schemas.openxmlformats.org/officeDocument/2006/relationships/hyperlink" Target="http://www.tonyryan.com.au/" TargetMode="External"/><Relationship Id="rId5" Type="http://schemas.openxmlformats.org/officeDocument/2006/relationships/hyperlink" Target="http://questioning.org/qtech.html" TargetMode="External"/><Relationship Id="rId6" Type="http://schemas.openxmlformats.org/officeDocument/2006/relationships/hyperlink" Target="http://ictnz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evo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ildren take photos from different perspectives – ants view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y Dream – picture of a car – what would it feel like to own 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 picture of two people – children write a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4 photos children sequence them to create a story – put in an odd one out – where would you put it?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Use a photo for stimulus – a story starter, a setting, a charact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Rip a small hole in a covered photo – what could it be?  Why do you think that?  Rip another hol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 spy books – children take photos and explain what can be 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lphabet books – take photos of every le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ounting books – photo of a numbers of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describe themselves or write a who am I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cut in half they draw the other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utumn poems with photos – Powerpoint with children reading their poems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ake digital stories for buddy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zherald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9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uff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onyryan.com.au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questioning.org/qte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ctnz.com/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- Trevo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y do we do inqui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quiry develops life long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oks different at e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control (Gui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negotia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beside learner – learner directed (P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oal – Every child becomes an Independent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a goal NOT a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lebrate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understoo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NOT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that explains the 7 decorative themes of art deco. Share your poster with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 Find info about 7 themes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opic is art deco. Find an area you’re are interested in research it and pres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chose area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celebrate the found but pupil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utilising 5 of the 7 decorative themes of art deco, advertising the upcoming art deco weekend.  Use at least 3 major advertising techniques in your poster.  Share your poster with class mates and explain your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 research themes but then use the info to create a poster, also research use and apply advertising techniques.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ard to find a learner directed area to study – this is the end point after a wealth of experience.  Children try but will produce a celebration of th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quiry is a Journe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takes 4 to 13 years to move from teacher directed to negotiated to learner direc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ear 7 and 8 children may still be at teacher directed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quiry is about learning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scaffolds children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forces student to use and apply information not just pres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Various Mode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 goo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mersion happens through out you do not need to pre immerse or pr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a task or a problem, you do not always need a question. The task will lead us to application, a question doesn’t always – You can answer the question without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sk o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plication -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 shares thinking, decision making and justifications – or why it didn’t work. What did I do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1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niors – use people and images not reading.  Deep inquiry based around images.  Ask expert to talk to the children – You are able to do powerful inquiry with jun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ke Journals available to children! Children becoming more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akes a lot of time to prepare a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nqui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n a term ah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resources and develop research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n’t give children good websites give them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hat will find the goo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affold children in finding ke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et Research - Children always write questions – questions are the shopping list that they take to the information supermarket (Inter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 not print out lots of information. Just FIND THE ANSWER TO THE QUES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 Ga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newspaper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swer who, what, when where (lower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gher order what happened next, why did it happen, when could it have happened, what could have been done to prevent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hats to look at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6:41:56Z</dcterms:created>
  <dc:creator>Ministry of Education</dc:creator>
  <dc:description/>
  <dc:language>en-US</dc:language>
  <cp:lastModifiedBy>Ministry of Education</cp:lastModifiedBy>
  <dcterms:modified xsi:type="dcterms:W3CDTF">2009-03-11T00:42:42Z</dcterms:modified>
  <cp:revision>9</cp:revision>
  <dc:subject/>
  <dc:title>Slide 1</dc:title>
</cp:coreProperties>
</file>