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124-6778-47E3-96BF-AC4A557B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20F-8D7D-415E-8036-4798B3AB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405-6AB7-43D2-A6EA-74BE0BE8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18A-5EB8-4448-8C00-0992161E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3AD-E6F1-40CC-8CA7-18FFE626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232-ED7D-4E3C-B1AB-280F5B6A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683-2887-4FAB-BD8B-04AA6A14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3C6-AC5B-4BD2-ACE3-E5FEA698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5DF-5108-47A6-91A7-477BC3E7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D38-BE1F-4293-9374-CF6A5763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91F-FA85-4C16-8A13-4563E1BC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227-2569-42BF-8567-51C163D2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348A-44A2-443D-9A25-C2A15F4F7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zherald.co.nz/" TargetMode="External"/><Relationship Id="rId2" Type="http://schemas.openxmlformats.org/officeDocument/2006/relationships/hyperlink" Target="http://www.9news.com/" TargetMode="External"/><Relationship Id="rId3" Type="http://schemas.openxmlformats.org/officeDocument/2006/relationships/hyperlink" Target="http://www.stuff.co.nz/" TargetMode="External"/><Relationship Id="rId4" Type="http://schemas.openxmlformats.org/officeDocument/2006/relationships/hyperlink" Target="http://www.tonyryan.com.au/" TargetMode="External"/><Relationship Id="rId5" Type="http://schemas.openxmlformats.org/officeDocument/2006/relationships/hyperlink" Target="http://questioning.org/qtech.html" TargetMode="External"/><Relationship Id="rId6" Type="http://schemas.openxmlformats.org/officeDocument/2006/relationships/hyperlink" Target="http://ictnz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revor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hildren take photos from different perspectives – ants viewpoi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My Dream – picture of a car – what would it feel like to own i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 picture of two people – children write a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4 photos children sequence them to create a story – put in an odd one out – where would you put it? 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Use a photo for stimulus – a story starter, a setting, a character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Rip a small hole in a covered photo – what could it be?  Why do you think that?  Rip another hole each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I spy books – children take photos and explain what can be 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lphabet books – take photos of every let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ounting books – photo of a numbers of th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Photos of children – describe themselves or write a who am I 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Photos of children – cut in half they draw the other ha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utumn poems with photos – Powerpoint with children reading their poems beh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Make digital stories for buddy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zherald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9new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tuff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onyryan.com.au</a:t>
            </a: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questioning.org/qte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ctnz.com/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- Trevor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y do we do inqui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quiry develops life long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ooks different at eve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control (Gui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negotiat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beside learner – learner directed (P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oal – Every child becomes an Independent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a goal NOT a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elebrate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understoo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NOT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reate a poster that explains the 7 decorative themes of art deco. Share your poster with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:  Find info about 7 themes and present it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Teacher directed but celebrating th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topic is art deco. Find an area you’re are interested in research it and presen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: chose area and present it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celebrate the found but pupil di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reate a poster utilising 5 of the 7 decorative themes of art deco, advertising the upcoming art deco weekend.  Use at least 3 major advertising techniques in your poster.  Share your poster with class mates and explain your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ey have to research themes but then use the info to create a poster, also research use and apply advertising techniques. – </a:t>
            </a:r>
            <a:r>
              <a:rPr b="1" lang="en-NZ" sz="2400" spc="-1" strike="noStrike" u="sng">
                <a:solidFill>
                  <a:srgbClr val="333399"/>
                </a:solidFill>
                <a:uFillTx/>
                <a:latin typeface="Arial"/>
              </a:rPr>
              <a:t>Teacher directed but celebrating the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ard to find a learner directed area to study – this is the end point after a wealth of experience.  Children try but will produce a celebration of the 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quiry is a Journey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t takes 4 to 13 years to move from teacher directed to negotiated to learner direc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ear 7 and 8 children may still be at teacher directed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quiry is about learning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ood inquiry scaffolds children to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ood inquiry forces student to use and apply information not just pres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Various Mode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A goo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mmersion happens through out you do not need to pre immerse or pre t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et a task or a problem, you do not always need a question. The task will lead us to application, a question doesn’t always – You can answer the question without the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ask or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pplication - do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udent shares thinking, decision making and justifications – or why it didn’t work. What did I do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71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uniors – use people and images not reading.  Deep inquiry based around images.  Ask expert to talk to the children – You are able to do powerful inquiry with jun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ke Journals available to children! Children becoming more indep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t takes a lot of time to prepare a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inqui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lan a term ahea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llect resources and develop research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on’t give children good websites give them th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that will find the good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caffold children in finding key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ternet Research - Children always write questions – questions are the shopping list that they take to the information supermarket (Interne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o not print out lots of information. Just FIND THE ANSWER TO THE QUES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hotos Ga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newspaper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swer who, what, when where (lower or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igher order what happened next, why did it happen, when could it have happened, what could have been done to prevent it happ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hats to look at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7324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6:41:56Z</dcterms:created>
  <dc:creator>Ministry of Education</dc:creator>
  <dc:description/>
  <dc:language>en-US</dc:language>
  <cp:lastModifiedBy>Ministry of Education</cp:lastModifiedBy>
  <dcterms:modified xsi:type="dcterms:W3CDTF">2009-03-11T00:42:42Z</dcterms:modified>
  <cp:revision>9</cp:revision>
  <dc:subject/>
  <dc:title>Slide 1</dc:title>
</cp:coreProperties>
</file>