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64C-07E1-4C26-BA2C-28BBA490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F689-4E57-47A6-B51A-10CFC2BE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EF4-7BD6-4953-B7A6-44DE5E6D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0431-7C08-4924-9892-4DB12380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0130-A0C7-4FB9-B1D6-56D739E2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EEE-916D-4DFA-BEC1-B2A26D53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AECB-2FC7-4331-BACF-02FA91E6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414-3E77-4F8F-A047-1449BEF6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E46-7792-4162-9A62-71C5EA42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ADA-EF56-44FA-90E3-E5E533FF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2AD-79FF-4599-9B69-3F0B4E1B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82E3-E21B-4B17-8206-5112154F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03FE-7CEA-45CE-A811-993D34D53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zherald.co.nz/" TargetMode="External"/><Relationship Id="rId2" Type="http://schemas.openxmlformats.org/officeDocument/2006/relationships/hyperlink" Target="http://www.9news.com/" TargetMode="External"/><Relationship Id="rId3" Type="http://schemas.openxmlformats.org/officeDocument/2006/relationships/hyperlink" Target="http://www.stuff.co.nz/" TargetMode="External"/><Relationship Id="rId4" Type="http://schemas.openxmlformats.org/officeDocument/2006/relationships/hyperlink" Target="http://www.tonyryan.com.au/" TargetMode="External"/><Relationship Id="rId5" Type="http://schemas.openxmlformats.org/officeDocument/2006/relationships/hyperlink" Target="http://questioning.org/qtech.html" TargetMode="External"/><Relationship Id="rId6" Type="http://schemas.openxmlformats.org/officeDocument/2006/relationships/hyperlink" Target="http://ictnz.com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revor B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Children take photos from different perspectives – ants viewpoi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My Dream – picture of a car – what would it feel like to own i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 picture of two people – children write a dialo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4 photos children sequence them to create a story – put in an odd one out – where would you put it?  Wh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Use a photo for stimulus – a story starter, a setting, a character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Rip a small hole in a covered photo – what could it be?  Why do you think that?  Rip another hole each 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I spy books – children take photos and explain what can be s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lphabet books – take photos of every let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Counting books – photo of a numbers of th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Photos of children – describe themselves or write a who am I 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Photos of children – cut in half they draw the other ha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utumn poems with photos – Powerpoint with children reading their poems beh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Make digital stories for buddy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zherald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9new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tuff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Tonyryan.com.au</a:t>
            </a:r>
            <a:r>
              <a:rPr b="0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questioning.org/qtec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ctnz.com/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- Trevor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y do we do inqui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quiry develops life long lea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ooks different at every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3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acher control (Gui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acher negotiat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acher beside learner – learner directed (P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oal – Every child becomes an Independent 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a goal NOT a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elebrate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understoo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NOT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reate a poster that explains the 7 decorative themes of art deco. Share your poster with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They have to:  Find info about 7 themes and present it – </a:t>
            </a:r>
            <a:r>
              <a:rPr b="1" lang="en-NZ" sz="2400" spc="-1" strike="noStrike" u="sng">
                <a:solidFill>
                  <a:srgbClr val="333399"/>
                </a:solidFill>
                <a:uFillTx/>
                <a:latin typeface="Arial"/>
              </a:rPr>
              <a:t>Teacher directed but celebrating th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topic is art deco. Find an area you’re are interested in research it and presen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They have to: chose area and present it – </a:t>
            </a:r>
            <a:r>
              <a:rPr b="1" lang="en-NZ" sz="2400" spc="-1" strike="noStrike" u="sng">
                <a:solidFill>
                  <a:srgbClr val="333399"/>
                </a:solidFill>
                <a:uFillTx/>
                <a:latin typeface="Arial"/>
              </a:rPr>
              <a:t>celebrate the found but pupil dir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reate a poster utilising 5 of the 7 decorative themes of art deco, advertising the upcoming art deco weekend.  Use at least 3 major advertising techniques in your poster.  Share your poster with class mates and explain your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They have to research themes but then use the info to create a poster, also research use and apply advertising techniques. – </a:t>
            </a:r>
            <a:r>
              <a:rPr b="1" lang="en-NZ" sz="2400" spc="-1" strike="noStrike" u="sng">
                <a:solidFill>
                  <a:srgbClr val="333399"/>
                </a:solidFill>
                <a:uFillTx/>
                <a:latin typeface="Arial"/>
              </a:rPr>
              <a:t>Teacher directed but celebrating the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ard to find a learner directed area to study – this is the end point after a wealth of experience.  Children try but will produce a celebration of the f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nquiry is a Journey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t takes 4 to 13 years to move from teacher directed to negotiated to learner direc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Year 7 and 8 children may still be at teacher directed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quiry is about learning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ood inquiry scaffolds children to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ood inquiry forces student to use and apply information not just pres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Various Mode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A goo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mmersion happens through out you do not need to pre immerse or pre t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et a task or a problem, you do not always need a question. The task will lead us to application, a question doesn’t always – You can answer the question without the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ask or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pplication - do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tudent shares thinking, decision making and justifications – or why it didn’t work. What did I do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71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Juniors – use people and images not reading.  Deep inquiry based around images.  Ask expert to talk to the children – You are able to do powerful inquiry with jun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ke Journals available to children! Children becoming more indepen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t takes a lot of time to prepare a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good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inqui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lan a term ahea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llect resources and develop research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on’t give children good websites give them th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keyword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that will find the good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caffold children in finding key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ternet Research - Children always write questions – questions are the shopping list that they take to the information supermarket (Interne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o not print out lots of information. Just FIND THE ANSWER TO THE QUES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hotos Ga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newspaper ph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swer who, what, when where (lower or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igher order what happened next, why did it happen, when could it have happened, what could have been done to prevent it happ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hats to look at ph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7324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6:41:56Z</dcterms:created>
  <dc:creator>Ministry of Education</dc:creator>
  <dc:description/>
  <dc:language>en-US</dc:language>
  <cp:lastModifiedBy>Ministry of Education</cp:lastModifiedBy>
  <dcterms:modified xsi:type="dcterms:W3CDTF">2009-03-11T00:42:42Z</dcterms:modified>
  <cp:revision>9</cp:revision>
  <dc:subject/>
  <dc:title>Slide 1</dc:title>
</cp:coreProperties>
</file>