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2FE-8C09-49D1-BB82-BFFE19EC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489-1DF9-4514-9EF7-A747A8D0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3A9-8E8D-4C0C-B13F-6254A3B1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EDB-E80F-4FE7-8C6B-838E6A99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FB0-98E8-44E0-88D0-810EC76A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80C-8641-4A6E-92F4-23561B75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B05-207D-4FCF-A9DD-185FFD1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21F-CCFF-42DC-8275-FE6A6BB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7C3-2512-48ED-8C8E-1253EA7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71F-D079-4B4F-A422-9EA5FA24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1CB-B4A8-4976-BA2A-B806A94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AFB-F8F1-46B1-83A1-FE9FFD4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C2DE-11E9-45DC-86A8-A9EC3590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557360"/>
            <a:ext cx="3960720" cy="2736720"/>
          </a:xfrm>
          <a:prstGeom prst="flowChartExtract">
            <a:avLst/>
          </a:prstGeom>
          <a:solidFill>
            <a:srgbClr val="ffff00"/>
          </a:solidFill>
          <a:ln w="92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303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Phase 1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y we are examining learning in ou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 definition of the characteristics of 21C 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836640"/>
            <a:ext cx="3456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cc00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-  how are we going to develop programmes that meet the needs of 21C Learners and reflect the OPS Core Valu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ere the Inquiry process com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a Learning Map/Framework that is a plan of our approach to student learn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437000"/>
            <a:ext cx="7128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Phas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at do we want our learner to have in their head and their heart? What do we value as important in terms of Values, Skills and Knowled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8-10 Core Values – statements that define what student learning is all about at our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at OPS unique. These will be reflected in our Cha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63700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19280" y="1700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3428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amples of Cor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X school we believe that responsibility, independence, initiative, common sense and perseverance are essential lif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YZ school values the fostering of creativity in it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At B school we valu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Knowledge through Curriculum - 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community - About my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world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om this weeks news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ARD OF TRUSTE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     ……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 major project for us for this year is to review ou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chools charter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document that which includes the schools’ purpose, vision,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values,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an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charter articulates what our school is all about – what does it actually say about what we value as important in terms of student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ll good stuff in the charter but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we value as important in terms of student learning? Can we see that in our char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ding Core Values will define what we believe is important in terms of 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early defined Core Values will allow students parents, staff and the wider community to know what learning is based on at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1:30:30Z</dcterms:created>
  <dc:creator>Ministry of Education</dc:creator>
  <dc:description/>
  <dc:language>en-US</dc:language>
  <cp:lastModifiedBy>Ministry of Education</cp:lastModifiedBy>
  <dcterms:modified xsi:type="dcterms:W3CDTF">2008-06-04T01:11:07Z</dcterms:modified>
  <cp:revision>22</cp:revision>
  <dc:subject/>
  <dc:title>Slide 1</dc:title>
</cp:coreProperties>
</file>