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6FF-2F28-4017-87AF-6DAD1E83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47A-3E6D-492D-AE78-41F29C42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295-AC36-47FD-89B8-5F8FF6DA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5C9-914A-4B59-A269-D97CAC4E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D86-96BA-4D51-9FF0-26B45998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986-D941-48BC-95AE-98381D90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292-3056-496C-8D9E-E0C09BC5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66A-80E5-4020-89C8-5E1DBFB7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412-3068-42F7-8668-C057B67B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6E3-3A40-4003-BC89-4AAF38C7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413-CA82-421A-8543-20BD1AF9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627-D7D0-4BE7-902B-E27DF919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0CA6-8547-4C8B-A755-0E6E7D01D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1557360"/>
            <a:ext cx="3960720" cy="2736720"/>
          </a:xfrm>
          <a:prstGeom prst="flowChartExtract">
            <a:avLst/>
          </a:prstGeom>
          <a:solidFill>
            <a:srgbClr val="ffff00"/>
          </a:solidFill>
          <a:ln w="92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981000"/>
            <a:ext cx="23032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Phase 1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y we are examining learning in our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a definition of the characteristics of 21C 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836640"/>
            <a:ext cx="345600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cc00"/>
                </a:solidFill>
                <a:latin typeface="Arial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-  how are we going to develop programmes that meet the needs of 21C Learners and reflect the OPS Core Valu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ere the Inquiry process com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a Learning Map/Framework that is a plan of our approach to student learn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437000"/>
            <a:ext cx="71280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                               </a:t>
            </a: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Phas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at do we want our learner to have in their head and their heart? What do we value as important in terms of Values, Skills and Knowled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8-10 Core Values – statements that define what student learning is all about at our scho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at OPS unique. These will be reflected in our Cha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637000"/>
            <a:ext cx="12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19280" y="170028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852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3428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amples of Core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X school we believe that responsibility, independence, initiative, common sense and perseverance are essential lif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YZ school values the fostering of creativity in its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u="sng">
                <a:solidFill>
                  <a:srgbClr val="000000"/>
                </a:solidFill>
                <a:uFillTx/>
                <a:latin typeface="Arial"/>
              </a:rPr>
              <a:t>At B school we valu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Knowledge through Curriculum - 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community - About my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world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rom this weeks news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OARD OF TRUSTEE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     ……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 major project for us for this year is to review our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chools charter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document that which includes the schools’ purpose, vision,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values,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and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charter articulates what our school is all about – what does it actually say about what we value as important in terms of student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ll good stuff in the charter but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we value as important in terms of student learning? Can we see that in our char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dding Core Values will define what we believe is important in terms of 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learly defined Core Values will allow students parents, staff and the wider community to know what learning is based on at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1:30:30Z</dcterms:created>
  <dc:creator>Ministry of Education</dc:creator>
  <dc:description/>
  <dc:language>en-US</dc:language>
  <cp:lastModifiedBy>Ministry of Education</cp:lastModifiedBy>
  <dcterms:modified xsi:type="dcterms:W3CDTF">2008-06-04T01:11:07Z</dcterms:modified>
  <cp:revision>22</cp:revision>
  <dc:subject/>
  <dc:title>Slide 1</dc:title>
</cp:coreProperties>
</file>