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05643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17A-D64D-4C2F-B248-C940250A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B9E-CCBA-4774-BBEA-4ECD54BB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2D3-393B-44FA-8CAC-55BDAC77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4BD-F067-4C5E-9B40-3930290F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5C9-44F8-4FD6-9E12-113CFB2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652-E811-4C82-84B4-E5C2C4E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F30-C0C2-4FB8-A5CA-80B58B0C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6D9-2ED8-4112-A737-73E1C99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2600"/>
            <a:ext cx="90741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1CF-44B2-4C29-BE33-492D786A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866-0909-451F-98F0-FE137B5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43E-0F8C-4BA8-82DD-20A39A7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EB4-E69B-4195-A3CC-008A8F0B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6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426360"/>
            <a:ext cx="319104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304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A426961-9E17-4443-A48A-A10E1556641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NZ" sz="3400" spc="-1" strike="noStrike">
                <a:solidFill>
                  <a:srgbClr val="000000"/>
                </a:solidFill>
                <a:latin typeface="Arial"/>
              </a:rPr>
              <a:t>Levels of I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Gu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Negotia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165200">
            <a:off x="5616360" y="1368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Lucida Handwriting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599600">
            <a:off x="2664360" y="4463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Comic Sans MS"/>
              </a:rPr>
              <a:t>Go for depth not 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6000" spc="-1" strike="noStrike">
                <a:solidFill>
                  <a:srgbClr val="0000ff"/>
                </a:solidFill>
                <a:latin typeface="Comic Sans MS"/>
              </a:rPr>
              <a:t>Guided Inqu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3311640"/>
            <a:ext cx="9001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600" spc="-1" strike="noStrike">
                <a:solidFill>
                  <a:srgbClr val="000000"/>
                </a:solidFill>
                <a:latin typeface="Arial"/>
              </a:rPr>
              <a:t>What planning must I do?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(Disregard the ‘no-planning myth’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24400">
            <a:off x="4836600" y="2536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Lucida Handwriting"/>
              </a:rPr>
              <a:t>What do I want them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4520" y="268200"/>
            <a:ext cx="5956200" cy="622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8600" y="712800"/>
            <a:ext cx="31338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abou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if……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do you thin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How do/would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I wonder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o/when/why/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1527120"/>
            <a:ext cx="1269720" cy="82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160" y="787320"/>
            <a:ext cx="1430280" cy="6667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49" y="249"/>
                  <a:pt x="98" y="90"/>
                  <a:pt x="226" y="45"/>
                </a:cubicBezTo>
                <a:cubicBezTo>
                  <a:pt x="354" y="0"/>
                  <a:pt x="673" y="121"/>
                  <a:pt x="771" y="136"/>
                </a:cubicBezTo>
              </a:path>
            </a:pathLst>
          </a:custGeom>
          <a:noFill/>
          <a:ln w="698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154600">
            <a:off x="6051600" y="5229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Lucida Handwriting"/>
              </a:rPr>
              <a:t>Go for depth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Authentic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"/>
              </a:rPr>
              <a:t>Valid foc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at planets are in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y / How do we have night and d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1640" y="122400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ly revisiting previous whe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viewing, revisiting, questioning throughout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right’ answers.  Tentative point of view to be investig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35290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ter wonderings leading to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s a list of mai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o get you started in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3164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m interested, rais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ings, questions,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ell them ahead of time what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ing to d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6720" y="360360"/>
            <a:ext cx="864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liminary knowledge /T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is children can’t ask inform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in-dep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–Lyn Ross and Mark Tread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2448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rtile /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s help a key or fertile ques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and then subsidiary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d, Keeping the focus narrow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ble and 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5184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of view –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response or point of view even if wrong -this gets them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360" y="19044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–discovery –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o try and find the answer but to gain deeper understanding and knowledge as you continually focus on the key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664000"/>
            <a:ext cx="94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got a reasonable understanding or point of view to talk constructively about the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4402080"/>
            <a:ext cx="936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re /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a few pictures, posters, a lot of oral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hat impacts other or that you can apply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-274680"/>
            <a:ext cx="806436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19" t="506" r="0" b="0"/>
          <a:stretch/>
        </p:blipFill>
        <p:spPr>
          <a:xfrm>
            <a:off x="863640" y="576360"/>
            <a:ext cx="86486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439640"/>
            <a:ext cx="9074160" cy="2592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Inquiry Lear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329400">
            <a:off x="-374400" y="-864720"/>
            <a:ext cx="11449080" cy="4392360"/>
          </a:xfrm>
          <a:prstGeom prst="irregularSeal2">
            <a:avLst/>
          </a:prstGeom>
          <a:solidFill>
            <a:srgbClr val="99ffcc"/>
          </a:solidFill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431640"/>
            <a:ext cx="88567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onotype Corsiva"/>
              </a:rPr>
              <a:t>How do I keep from getting </a:t>
            </a:r>
            <a:r>
              <a:rPr b="0" lang="en-US" sz="6600" spc="-1" strike="noStrike">
                <a:solidFill>
                  <a:srgbClr val="008000"/>
                </a:solidFill>
                <a:latin typeface="Monotype Corsiva"/>
              </a:rPr>
              <a:t>Green </a:t>
            </a:r>
            <a:r>
              <a:rPr b="0" lang="en-US" sz="9600" spc="-1" strike="noStrike">
                <a:solidFill>
                  <a:srgbClr val="006600"/>
                </a:solidFill>
                <a:latin typeface="Chiller"/>
              </a:rPr>
              <a:t>Snot</a:t>
            </a:r>
            <a:r>
              <a:rPr b="0" lang="en-US" sz="6600" spc="-1" strike="noStrike">
                <a:solidFill>
                  <a:srgbClr val="0066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77080" y="45370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Why is it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hat do I do  to help others to not 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"/>
              </a:rPr>
              <a:t>Green S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540072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a virus and how do I not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1080" y="3095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What do I do to not get the f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4920" y="5904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oes medicin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Group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657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2 ways depending on aim and 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4896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me ques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7640" y="331164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10920" y="3311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33847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2360" y="3529080"/>
            <a:ext cx="216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5640" y="2808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54720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egular / daily feed back of new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nstantly refer to the questions on the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2664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Mixed groups or 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5040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ra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04000" y="345600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68720" y="3384720"/>
            <a:ext cx="142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43640" y="338472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3456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02000">
            <a:off x="287640" y="43128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Go for depth not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3200">
            <a:off x="3416400" y="2825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Keep it simple- go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2000" y="2160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NAONE"/>
              </a:rPr>
              <a:t>Good Luc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4392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3024360"/>
            <a:ext cx="9074160" cy="3279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quiry is about having a question worth finding out about and then putting energy into finding ou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help children be creative, analytical and responsive lear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What is Inquiry Learn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511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quiry learning is a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o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Arial"/>
              </a:rPr>
              <a:t>What it i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645920"/>
            <a:ext cx="9074160" cy="4978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king a PowerPoint document with great pictures and transitions and other gimmi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utting stuff into a Topic Book and making it look pret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place for individual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4103640"/>
            <a:ext cx="650556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is is an astrona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ying to Venu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What it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s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 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43964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3333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3333ff"/>
                </a:solidFill>
                <a:latin typeface="Comic Sans MS"/>
              </a:rPr>
              <a:t>Talk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 u="sng">
                <a:solidFill>
                  <a:srgbClr val="660066"/>
                </a:solidFill>
                <a:uFillTx/>
                <a:latin typeface="Arial"/>
              </a:rPr>
              <a:t>adjusting/refi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sharing and talk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sharing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1640" y="863640"/>
            <a:ext cx="9074160" cy="5400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hildren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ritical, creative, analytical 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olaborative workers/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remove the focu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in some cases the paranoia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written language being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tool for adults (and kids)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can communicate more effectively and more efficiently our ideas, concerns and our v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6320" y="934920"/>
            <a:ext cx="9070920" cy="53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adjusting/refining/exte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nking can only be accomplished through talking as children engage with each other and discuss the concept or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note that w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t Higher Order Thinking through lots of written work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Comic Sans MS"/>
              </a:rPr>
              <a:t>Asking tough questions can often be derailed by having to write about it.  It is the talking, thinking and learning that is important and not the written stu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2:09:54Z</dcterms:created>
  <dc:creator>Administrator</dc:creator>
  <dc:description/>
  <dc:language>en-US</dc:language>
  <cp:lastModifiedBy>Administrator</cp:lastModifiedBy>
  <dcterms:modified xsi:type="dcterms:W3CDTF">2008-07-31T02:17:19Z</dcterms:modified>
  <cp:revision>31</cp:revision>
  <dc:subject/>
  <dc:title>What is Inquiry Learning?</dc:title>
</cp:coreProperties>
</file>