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056438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919-7FCB-43DE-A05D-A36E3C82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41D-05F9-4A05-93AB-27AF0030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BC1-E52D-45A4-8056-0EE5B541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412-6878-4BF8-ABB9-248350DC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E9A-D7D9-4CAE-9E79-72F9488F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887-BCC6-490A-9B9C-D6C0B0A2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1B8-2406-40B3-82EB-91672935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671-1093-4A34-A9EB-70188C0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2600"/>
            <a:ext cx="907416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55B-B7F3-4C30-A6D9-A9CE1B8E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8F9-CD8F-450E-BE3F-36660CD2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08F-BDA4-4964-A60F-F83BB15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939-24FC-46F2-B7F2-744DB46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62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426360"/>
            <a:ext cx="319104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304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4457EC4-112A-45EB-B0DF-7DB0A137517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NZ" sz="3400" spc="-1" strike="noStrike">
                <a:solidFill>
                  <a:srgbClr val="000000"/>
                </a:solidFill>
                <a:latin typeface="Arial"/>
              </a:rPr>
              <a:t>Levels of I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Guid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Negotia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165200">
            <a:off x="5616360" y="1368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Lucida Handwriting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599600">
            <a:off x="2664360" y="446364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3366ff"/>
                </a:solidFill>
                <a:latin typeface="Comic Sans MS"/>
              </a:rPr>
              <a:t>Go for depth not  brea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6000" spc="-1" strike="noStrike">
                <a:solidFill>
                  <a:srgbClr val="0000ff"/>
                </a:solidFill>
                <a:latin typeface="Comic Sans MS"/>
              </a:rPr>
              <a:t>Guided Inqui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3311640"/>
            <a:ext cx="9001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3333ff"/>
                </a:solidFill>
                <a:latin typeface="Arial"/>
              </a:rPr>
              <a:t>*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3600" spc="-1" strike="noStrike">
                <a:solidFill>
                  <a:srgbClr val="000000"/>
                </a:solidFill>
                <a:latin typeface="Arial"/>
              </a:rPr>
              <a:t>What planning must I do?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(Disregard the ‘no-planning myth’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24400">
            <a:off x="4836600" y="2536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Lucida Handwriting"/>
              </a:rPr>
              <a:t>What do I want them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4520" y="268200"/>
            <a:ext cx="5956200" cy="622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8600" y="712800"/>
            <a:ext cx="313380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about……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if……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do you thin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How do/would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I wonder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o/when/why/i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680" y="1527120"/>
            <a:ext cx="1269720" cy="82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otiv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1160" y="787320"/>
            <a:ext cx="1430280" cy="666720"/>
          </a:xfrm>
          <a:custGeom>
            <a:avLst/>
            <a:gdLst/>
            <a:ahLst/>
            <a:rect l="l" t="t" r="r" b="b"/>
            <a:pathLst>
              <a:path w="771" h="408">
                <a:moveTo>
                  <a:pt x="0" y="408"/>
                </a:moveTo>
                <a:cubicBezTo>
                  <a:pt x="49" y="249"/>
                  <a:pt x="98" y="90"/>
                  <a:pt x="226" y="45"/>
                </a:cubicBezTo>
                <a:cubicBezTo>
                  <a:pt x="354" y="0"/>
                  <a:pt x="673" y="121"/>
                  <a:pt x="771" y="136"/>
                </a:cubicBezTo>
              </a:path>
            </a:pathLst>
          </a:custGeom>
          <a:noFill/>
          <a:ln w="698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154600">
            <a:off x="6051600" y="5229000"/>
            <a:ext cx="33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Lucida Handwriting"/>
              </a:rPr>
              <a:t>Go for depth of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Authentic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"/>
              </a:rPr>
              <a:t>Valid foc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at planets are in spa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y / How do we have night and d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1640" y="122400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ly revisiting previous whe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reviewing, revisiting, questioning throughout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‘right’ answers.  Tentative point of view to be investig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31640" y="35290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ter wonderings leading to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form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akes a list of main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to get you started in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31640"/>
            <a:ext cx="871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m interested, raise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derings, questions, gener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ell them ahead of time what 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oing to d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36720" y="360360"/>
            <a:ext cx="8640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liminary knowledge /T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his children can’t ask inform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r in-dep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 –Lyn Ross and Mark Tread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2448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rtile /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s help a key or fertile question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ed and then subsidiary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d, Keeping the focus narrow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ble and 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280" y="5184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int of view –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response or point of view even if wrong -this gets them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0360" y="190440"/>
            <a:ext cx="92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–discovery –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not to try and find the answer but to gain deeper understanding and knowledge as you continually focus on the key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00" y="2664000"/>
            <a:ext cx="94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ider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we got a reasonable understanding or point of view to talk constructively about the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280" y="4402080"/>
            <a:ext cx="936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re /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a few pictures, posters, a lot of oral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hat impacts other or that you can apply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79640" y="-274680"/>
            <a:ext cx="8064360" cy="76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3319" t="506" r="0" b="0"/>
          <a:stretch/>
        </p:blipFill>
        <p:spPr>
          <a:xfrm>
            <a:off x="863640" y="576360"/>
            <a:ext cx="86486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1439640"/>
            <a:ext cx="9074160" cy="2592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Inquiry Learn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329400">
            <a:off x="-374400" y="-864720"/>
            <a:ext cx="11449080" cy="4392360"/>
          </a:xfrm>
          <a:prstGeom prst="irregularSeal2">
            <a:avLst/>
          </a:prstGeom>
          <a:solidFill>
            <a:srgbClr val="99ffcc"/>
          </a:solidFill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431640"/>
            <a:ext cx="885672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Monotype Corsiva"/>
              </a:rPr>
              <a:t>How do I keep from getting </a:t>
            </a:r>
            <a:r>
              <a:rPr b="0" lang="en-US" sz="6600" spc="-1" strike="noStrike">
                <a:solidFill>
                  <a:srgbClr val="008000"/>
                </a:solidFill>
                <a:latin typeface="Monotype Corsiva"/>
              </a:rPr>
              <a:t>Green </a:t>
            </a:r>
            <a:r>
              <a:rPr b="0" lang="en-US" sz="9600" spc="-1" strike="noStrike">
                <a:solidFill>
                  <a:srgbClr val="006600"/>
                </a:solidFill>
                <a:latin typeface="Chiller"/>
              </a:rPr>
              <a:t>Snot</a:t>
            </a:r>
            <a:r>
              <a:rPr b="0" lang="en-US" sz="6600" spc="-1" strike="noStrike">
                <a:solidFill>
                  <a:srgbClr val="006600"/>
                </a:solidFill>
                <a:latin typeface="comic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77080" y="45370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Why is it g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672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What do I do  to help others to not 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"/>
              </a:rPr>
              <a:t>Green S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5400720"/>
            <a:ext cx="56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a virus and how do I not ge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61080" y="309564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What do I do to not get the fl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4920" y="5904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oes medicin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Group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657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2 ways depending on aim and childr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4896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me ques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7640" y="331164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10920" y="3311640"/>
            <a:ext cx="7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338472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2360" y="3529080"/>
            <a:ext cx="216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35640" y="2808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9280" y="5472000"/>
            <a:ext cx="87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egular / daily feed back of new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onstantly refer to the questions on the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266400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Mixed groups or 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88000" y="5040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Gra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04000" y="3456000"/>
            <a:ext cx="503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68720" y="3384720"/>
            <a:ext cx="1429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43640" y="338472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0000" y="345600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202000">
            <a:off x="287640" y="43128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Go for depth not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053200">
            <a:off x="3416400" y="2825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Keep it simple- go fo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92000" y="2160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NAONE"/>
              </a:rPr>
              <a:t>Good Luck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2000" y="43927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3280" y="3024360"/>
            <a:ext cx="9074160" cy="3279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nquiry is about having a question worth finding out about and then putting energy into finding ou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 help children be creative, analytical and responsive learn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What is Inquiry Learn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" y="1511280"/>
            <a:ext cx="89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quiry learning is a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b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us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not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Arial"/>
              </a:rPr>
              <a:t>What it is 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645920"/>
            <a:ext cx="9074160" cy="4978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aking a PowerPoint document with great pictures and transitions and other gimmic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utting stuff into a Topic Book and making it look pret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 place for individual 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0" y="4103640"/>
            <a:ext cx="6505560" cy="27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is is an astronau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lying to Venu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What it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is</a:t>
            </a: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 ab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439640"/>
            <a:ext cx="9074160" cy="5113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3333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3333ff"/>
                </a:solidFill>
                <a:latin typeface="Comic Sans MS"/>
              </a:rPr>
              <a:t>Talk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 u="sng">
                <a:solidFill>
                  <a:srgbClr val="660066"/>
                </a:solidFill>
                <a:uFillTx/>
                <a:latin typeface="Arial"/>
              </a:rPr>
              <a:t>adjusting/refi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a50021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sharing and talk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ff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sharing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1640" y="863640"/>
            <a:ext cx="9074160" cy="5400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7000"/>
          </a:bodyPr>
          <a:p>
            <a:pPr marL="357120" indent="-3571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hildren 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ritical, creative, analytical 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olaborative workers/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0360" y="107964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remove the focus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in some cases the paranoia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 written language being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on tool for adults (and kids)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can communicate more effectively and more efficiently our ideas, concerns and our vis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6320" y="934920"/>
            <a:ext cx="9070920" cy="53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adjusting/refining/exten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inking can only be accomplished through talking as children engage with each other and discuss the concept or id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o note that w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t Higher Order Thinking through lots of written work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000" spc="-1" strike="noStrike">
                <a:solidFill>
                  <a:srgbClr val="ff3300"/>
                </a:solidFill>
                <a:latin typeface="Comic Sans MS"/>
              </a:rPr>
              <a:t>Asking tough questions can often be derailed by having to write about it.  It is the talking, thinking and learning that is important and not the written stuf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22:09:54Z</dcterms:created>
  <dc:creator>Administrator</dc:creator>
  <dc:description/>
  <dc:language>en-US</dc:language>
  <cp:lastModifiedBy>Administrator</cp:lastModifiedBy>
  <dcterms:modified xsi:type="dcterms:W3CDTF">2008-07-31T02:17:19Z</dcterms:modified>
  <cp:revision>31</cp:revision>
  <dc:subject/>
  <dc:title>What is Inquiry Learning?</dc:title>
</cp:coreProperties>
</file>