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10080625" cy="7056438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88ACE-C718-4FA0-AA20-D63756EBB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82600"/>
            <a:ext cx="9074160" cy="11764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indent="0" algn="ctr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646280"/>
            <a:ext cx="9074160" cy="22215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79160"/>
            <a:ext cx="9074160" cy="22215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F38F4-5CFB-49E0-8A3B-70FF42768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82600"/>
            <a:ext cx="9074160" cy="11764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indent="0" algn="ctr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646280"/>
            <a:ext cx="4428000" cy="22215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3040" y="1646280"/>
            <a:ext cx="4428000" cy="22215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79160"/>
            <a:ext cx="4428000" cy="22215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3040" y="4079160"/>
            <a:ext cx="4428000" cy="22215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F2D08-0B0A-42FD-815C-FA1BECE5E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82600"/>
            <a:ext cx="9074160" cy="11764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indent="0" algn="ctr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646280"/>
            <a:ext cx="2921760" cy="22215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1560" y="1646280"/>
            <a:ext cx="2921760" cy="22215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9840" y="1646280"/>
            <a:ext cx="2921760" cy="22215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79160"/>
            <a:ext cx="2921760" cy="22215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1560" y="4079160"/>
            <a:ext cx="2921760" cy="22215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9840" y="4079160"/>
            <a:ext cx="2921760" cy="22215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F8DC6-2BD6-497A-A132-C6254CE14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82600"/>
            <a:ext cx="9074160" cy="11764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indent="0" algn="ctr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646280"/>
            <a:ext cx="9074160" cy="465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B2754-1691-4176-8131-ED1223897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82600"/>
            <a:ext cx="9074160" cy="11764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indent="0" algn="ctr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646280"/>
            <a:ext cx="9074160" cy="46576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223E3-A9A7-4AC9-80B8-5240FB362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82600"/>
            <a:ext cx="9074160" cy="11764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indent="0" algn="ctr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646280"/>
            <a:ext cx="4428000" cy="46576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3040" y="1646280"/>
            <a:ext cx="4428000" cy="46576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41516-DCD6-4DE7-966E-A00FF0A00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82600"/>
            <a:ext cx="9074160" cy="11764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indent="0" algn="ctr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346D8-3141-48B3-8D73-F8A36B933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82600"/>
            <a:ext cx="9074160" cy="545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21431-BA7C-4BFC-81E7-26C47ADFD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82600"/>
            <a:ext cx="9074160" cy="11764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indent="0" algn="ctr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646280"/>
            <a:ext cx="4428000" cy="22215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3040" y="1646280"/>
            <a:ext cx="4428000" cy="46576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79160"/>
            <a:ext cx="4428000" cy="22215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11260-AF66-4D78-8E33-1CCF89601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82600"/>
            <a:ext cx="9074160" cy="11764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indent="0" algn="ctr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646280"/>
            <a:ext cx="4428000" cy="46576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3040" y="1646280"/>
            <a:ext cx="4428000" cy="22215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3040" y="4079160"/>
            <a:ext cx="4428000" cy="22215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3C368-FF79-4494-A1A6-362E53DFE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82600"/>
            <a:ext cx="9074160" cy="11764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indent="0" algn="ctr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646280"/>
            <a:ext cx="4428000" cy="22215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3040" y="1646280"/>
            <a:ext cx="4428000" cy="22215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79160"/>
            <a:ext cx="9074160" cy="22215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39058-477C-4224-AFE3-B83F7A711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82600"/>
            <a:ext cx="9074160" cy="11764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indent="0" algn="ctr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646280"/>
            <a:ext cx="9074160" cy="46576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marL="368280" indent="-36828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95240" indent="-304560"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2" marL="1224000" indent="-24444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246240"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4" marL="2203560" indent="-24624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5" marL="2203560" indent="-24624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6" marL="2203560" indent="-24624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426360"/>
            <a:ext cx="2354400" cy="4903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Autofit/>
          </a:bodyPr>
          <a:lstStyle>
            <a:lvl1pPr indent="0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  <a:defRPr b="0" lang="en-US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4840" y="6426360"/>
            <a:ext cx="3191040" cy="4903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Autofit/>
          </a:bodyPr>
          <a:lstStyle>
            <a:lvl1pPr indent="0" algn="ctr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  <a:defRPr b="0" lang="en-US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3040" y="6426360"/>
            <a:ext cx="2354400" cy="4903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Autofit/>
          </a:bodyPr>
          <a:lstStyle>
            <a:lvl1pPr indent="0" algn="r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  <a:defRPr b="0" lang="en-US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F5CD5ABD-AC5F-4213-BDFC-D967F0ED3046}" type="slidenum">
              <a:rPr b="0" lang="en-US" sz="1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503280" y="1646280"/>
            <a:ext cx="9074160" cy="46576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marL="368280" indent="-36828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en-NZ" sz="3400" spc="-1" strike="noStrike">
                <a:solidFill>
                  <a:srgbClr val="000000"/>
                </a:solidFill>
                <a:latin typeface="Arial"/>
              </a:rPr>
              <a:t>Levels of Inquiry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68280" indent="-36828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NZ" sz="3400" spc="-1" strike="noStrike">
                <a:solidFill>
                  <a:srgbClr val="000000"/>
                </a:solidFill>
                <a:latin typeface="Arial"/>
              </a:rPr>
              <a:t>Guided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68280" indent="-36828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NZ" sz="3400" spc="-1" strike="noStrike">
                <a:solidFill>
                  <a:srgbClr val="000000"/>
                </a:solidFill>
                <a:latin typeface="Arial"/>
              </a:rPr>
              <a:t>Negotiated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68280" indent="-36828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NZ" sz="3400" spc="-1" strike="noStrike">
                <a:solidFill>
                  <a:srgbClr val="000000"/>
                </a:solidFill>
                <a:latin typeface="Arial"/>
              </a:rPr>
              <a:t>Pur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rot="1165200">
            <a:off x="5616360" y="1368000"/>
            <a:ext cx="36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3200" spc="-1" strike="noStrike">
                <a:solidFill>
                  <a:srgbClr val="cc00ff"/>
                </a:solidFill>
                <a:latin typeface="Lucida Handwriting"/>
              </a:rPr>
              <a:t>Keep it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19599600">
            <a:off x="2664360" y="4463640"/>
            <a:ext cx="4681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i="1" lang="en-US" sz="3200" spc="-1" strike="noStrike">
                <a:solidFill>
                  <a:srgbClr val="3366ff"/>
                </a:solidFill>
                <a:latin typeface="Comic Sans MS"/>
              </a:rPr>
              <a:t>Go for depth not  bread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3280" y="282600"/>
            <a:ext cx="9074160" cy="11764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NZ" sz="6000" spc="-1" strike="noStrike">
                <a:solidFill>
                  <a:srgbClr val="0000ff"/>
                </a:solidFill>
                <a:latin typeface="Comic Sans MS"/>
              </a:rPr>
              <a:t>Guided Inquir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76360" y="3311640"/>
            <a:ext cx="9001080" cy="26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90000"/>
              </a:lnSpc>
              <a:spcBef>
                <a:spcPts val="901"/>
              </a:spcBef>
              <a:buClr>
                <a:srgbClr val="3333ff"/>
              </a:buClr>
              <a:buFont typeface="Arial"/>
              <a:buChar char="–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NZ" sz="3600" spc="-1" strike="noStrike">
                <a:solidFill>
                  <a:srgbClr val="3333ff"/>
                </a:solidFill>
                <a:latin typeface="Arial"/>
              </a:rPr>
              <a:t>*</a:t>
            </a:r>
            <a:r>
              <a:rPr b="0" lang="en-NZ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NZ" sz="3600" spc="-1" strike="noStrike">
                <a:solidFill>
                  <a:srgbClr val="000000"/>
                </a:solidFill>
                <a:latin typeface="Arial"/>
              </a:rPr>
              <a:t>What planning must I do?</a:t>
            </a:r>
            <a:r>
              <a:rPr b="0" lang="en-NZ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NZ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NZ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3600" spc="-1" strike="noStrike">
                <a:solidFill>
                  <a:srgbClr val="000000"/>
                </a:solidFill>
                <a:latin typeface="Arial"/>
              </a:rPr>
              <a:t>(Disregard the ‘no-planning myth’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rot="1424400">
            <a:off x="4836600" y="2536920"/>
            <a:ext cx="532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2800" spc="-1" strike="noStrike">
                <a:solidFill>
                  <a:srgbClr val="cc00ff"/>
                </a:solidFill>
                <a:latin typeface="Lucida Handwriting"/>
              </a:rPr>
              <a:t>What do I want them to lear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614520" y="268200"/>
            <a:ext cx="5956200" cy="622296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6708600" y="712800"/>
            <a:ext cx="3133800" cy="395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2500" spc="-1" strike="noStrike">
                <a:solidFill>
                  <a:srgbClr val="cc00ff"/>
                </a:solidFill>
                <a:latin typeface="Comic Sans MS"/>
              </a:rPr>
              <a:t>What about……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2500" spc="-1" strike="noStrike">
                <a:solidFill>
                  <a:srgbClr val="cc00ff"/>
                </a:solidFill>
                <a:latin typeface="Comic Sans MS"/>
              </a:rPr>
              <a:t>What if………….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2500" spc="-1" strike="noStrike">
                <a:solidFill>
                  <a:srgbClr val="cc00ff"/>
                </a:solidFill>
                <a:latin typeface="Comic Sans MS"/>
              </a:rPr>
              <a:t>What do you think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2500" spc="-1" strike="noStrike">
                <a:solidFill>
                  <a:srgbClr val="cc00ff"/>
                </a:solidFill>
                <a:latin typeface="Comic Sans MS"/>
              </a:rPr>
              <a:t>How do/would……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2500" spc="-1" strike="noStrike">
                <a:solidFill>
                  <a:srgbClr val="cc00ff"/>
                </a:solidFill>
                <a:latin typeface="Comic Sans MS"/>
              </a:rPr>
              <a:t>I wonder…….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2500" spc="-1" strike="noStrike">
                <a:solidFill>
                  <a:srgbClr val="cc00ff"/>
                </a:solidFill>
                <a:latin typeface="Comic Sans MS"/>
              </a:rPr>
              <a:t> </a:t>
            </a:r>
            <a:r>
              <a:rPr b="0" lang="en-US" sz="2500" spc="-1" strike="noStrike">
                <a:solidFill>
                  <a:srgbClr val="cc00ff"/>
                </a:solidFill>
                <a:latin typeface="Comic Sans MS"/>
              </a:rPr>
              <a:t>who/when/why/if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36680" y="1527120"/>
            <a:ext cx="1269720" cy="828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spAutoFit/>
          </a:bodyPr>
          <a:p>
            <a:pPr>
              <a:spcBef>
                <a:spcPts val="1188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88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Motivat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1160" y="787320"/>
            <a:ext cx="1430280" cy="666720"/>
          </a:xfrm>
          <a:custGeom>
            <a:avLst/>
            <a:gdLst/>
            <a:ahLst/>
            <a:rect l="l" t="t" r="r" b="b"/>
            <a:pathLst>
              <a:path w="771" h="408">
                <a:moveTo>
                  <a:pt x="0" y="408"/>
                </a:moveTo>
                <a:cubicBezTo>
                  <a:pt x="49" y="249"/>
                  <a:pt x="98" y="90"/>
                  <a:pt x="226" y="45"/>
                </a:cubicBezTo>
                <a:cubicBezTo>
                  <a:pt x="354" y="0"/>
                  <a:pt x="673" y="121"/>
                  <a:pt x="771" y="136"/>
                </a:cubicBezTo>
              </a:path>
            </a:pathLst>
          </a:custGeom>
          <a:noFill/>
          <a:ln w="6984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rot="20154600">
            <a:off x="6051600" y="5229000"/>
            <a:ext cx="333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en-US" sz="2800" spc="-1" strike="noStrike">
                <a:solidFill>
                  <a:srgbClr val="3366ff"/>
                </a:solidFill>
                <a:latin typeface="Lucida Handwriting"/>
              </a:rPr>
              <a:t>Go for depth of underst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16000" y="0"/>
            <a:ext cx="23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ui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3280" y="282600"/>
            <a:ext cx="9074160" cy="11764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Comic Sans MS"/>
              </a:rPr>
              <a:t>Authentic Question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3280" y="1646280"/>
            <a:ext cx="9074160" cy="46576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marL="3682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"/>
              </a:rPr>
              <a:t>Valid focu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68280" indent="0">
              <a:spcBef>
                <a:spcPts val="850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68280" indent="-36828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eg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68280" indent="-368280">
              <a:lnSpc>
                <a:spcPct val="100000"/>
              </a:lnSpc>
              <a:spcBef>
                <a:spcPts val="850"/>
              </a:spcBef>
              <a:buClr>
                <a:srgbClr val="9966ff"/>
              </a:buClr>
              <a:buFont typeface="Comic Sans MS"/>
              <a:buChar char="•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i="1" lang="en-US" sz="3400" spc="-1" strike="noStrike">
                <a:solidFill>
                  <a:srgbClr val="9966ff"/>
                </a:solidFill>
                <a:latin typeface="Comic Sans MS"/>
              </a:rPr>
              <a:t>What planets are in space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68280" indent="-368280">
              <a:lnSpc>
                <a:spcPct val="100000"/>
              </a:lnSpc>
              <a:spcBef>
                <a:spcPts val="850"/>
              </a:spcBef>
              <a:buClr>
                <a:srgbClr val="9966ff"/>
              </a:buClr>
              <a:buFont typeface="Comic Sans MS"/>
              <a:buChar char="•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i="1" lang="en-US" sz="3400" spc="-1" strike="noStrike">
                <a:solidFill>
                  <a:srgbClr val="9966ff"/>
                </a:solidFill>
                <a:latin typeface="Comic Sans MS"/>
              </a:rPr>
              <a:t>Why / How do we have night and day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31640" y="1224000"/>
            <a:ext cx="9074160" cy="46576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marL="368280" indent="-3682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The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95240" indent="-30456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t linea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95240" indent="-30456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stantly revisiting previous whe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95240" indent="0">
              <a:spcBef>
                <a:spcPts val="751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95240" indent="-30456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ots of reviewing, revisiting, questioning throughout the proces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95240" indent="-30456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‘right’ answers.  Tentative point of view to be investigat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431640" y="3529080"/>
            <a:ext cx="89298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Qu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tter wonderings leading to question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ing formaliz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 makes a list of main question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are to get you started in the st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863640" y="431640"/>
            <a:ext cx="8713800" cy="32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Motiv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t them interested, raise aware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nderings, questions, general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s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’t tell them ahead of time what you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 going to do 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arr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36720" y="360360"/>
            <a:ext cx="864072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reliminary knowledge /Teac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this children can’t ask informed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tions or in-depth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tions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important –Lyn Ross and Mark Treadw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47640" y="2448000"/>
            <a:ext cx="87854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Fertile / Key Ques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Ts help a key or fertile question i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ked and then subsidiary question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sted, Keeping the focus narrow,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able and in-dep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19280" y="5184720"/>
            <a:ext cx="8496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oint of view – advoca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t a response or point of view even if wrong -this gets them think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360360" y="190440"/>
            <a:ext cx="9288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Research –discovery –experi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are not to try and find the answer but to gain deeper understanding and knowledge as you continually focus on the key ques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16000" y="2664000"/>
            <a:ext cx="9432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onsider the ques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we got a reasonable understanding or point of view to talk constructively about the key ques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87280" y="4402080"/>
            <a:ext cx="9360000" cy="24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hare / Pres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be a few pictures, posters, a lot of oral sha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thing that impacts other or that you can apply elsew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079640" y="-274680"/>
            <a:ext cx="8064360" cy="760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rcRect l="3319" t="506" r="0" b="0"/>
          <a:stretch/>
        </p:blipFill>
        <p:spPr>
          <a:xfrm>
            <a:off x="863640" y="576360"/>
            <a:ext cx="8648640" cy="59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1439640"/>
            <a:ext cx="9074160" cy="25923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indent="0" algn="ctr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9600" spc="-1" strike="noStrike">
                <a:solidFill>
                  <a:srgbClr val="0000ff"/>
                </a:solidFill>
                <a:latin typeface="Arial"/>
              </a:rPr>
              <a:t>Inquiry Learning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 rot="329400">
            <a:off x="-374400" y="-864720"/>
            <a:ext cx="11449080" cy="4392360"/>
          </a:xfrm>
          <a:prstGeom prst="irregularSeal2">
            <a:avLst/>
          </a:prstGeom>
          <a:solidFill>
            <a:srgbClr val="99ffcc"/>
          </a:solidFill>
          <a:ln w="442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03280" y="431640"/>
            <a:ext cx="8856720" cy="256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6600" spc="-1" strike="noStrike">
                <a:solidFill>
                  <a:srgbClr val="000066"/>
                </a:solidFill>
                <a:latin typeface="Monotype Corsiva"/>
              </a:rPr>
              <a:t>How do I keep from getting </a:t>
            </a:r>
            <a:r>
              <a:rPr b="0" lang="en-US" sz="6600" spc="-1" strike="noStrike">
                <a:solidFill>
                  <a:srgbClr val="008000"/>
                </a:solidFill>
                <a:latin typeface="Monotype Corsiva"/>
              </a:rPr>
              <a:t>Green </a:t>
            </a:r>
            <a:r>
              <a:rPr b="0" lang="en-US" sz="9600" spc="-1" strike="noStrike">
                <a:solidFill>
                  <a:srgbClr val="006600"/>
                </a:solidFill>
                <a:latin typeface="Chiller"/>
              </a:rPr>
              <a:t>Snot</a:t>
            </a:r>
            <a:r>
              <a:rPr b="0" lang="en-US" sz="6600" spc="-1" strike="noStrike">
                <a:solidFill>
                  <a:srgbClr val="006600"/>
                </a:solidFill>
                <a:latin typeface="comic"/>
              </a:rPr>
              <a:t>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977080" y="4537080"/>
            <a:ext cx="33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3200" spc="-1" strike="noStrike">
                <a:solidFill>
                  <a:srgbClr val="9966ff"/>
                </a:solidFill>
                <a:latin typeface="Comic Sans MS"/>
              </a:rPr>
              <a:t>Why is it gre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3672000"/>
            <a:ext cx="5545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i="1" lang="en-US" sz="3200" spc="-1" strike="noStrike">
                <a:solidFill>
                  <a:srgbClr val="ff0066"/>
                </a:solidFill>
                <a:latin typeface="Arial"/>
              </a:rPr>
              <a:t>What do I do  to help others to not ge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8000"/>
                </a:solidFill>
                <a:latin typeface="comic"/>
              </a:rPr>
              <a:t>Green Sno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87280" y="5400720"/>
            <a:ext cx="5689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What is a virus and how do I not get 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761080" y="3095640"/>
            <a:ext cx="396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3200" spc="-1" strike="noStrike">
                <a:solidFill>
                  <a:srgbClr val="cc00ff"/>
                </a:solidFill>
                <a:latin typeface="Comic Sans MS"/>
              </a:rPr>
              <a:t>What do I do to not get the flu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614920" y="5904000"/>
            <a:ext cx="446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3200" spc="-1" strike="noStrike">
                <a:solidFill>
                  <a:srgbClr val="3399ff"/>
                </a:solidFill>
                <a:latin typeface="Arial"/>
              </a:rPr>
              <a:t>Does medicine wor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000"/>
                            </p:stCondLst>
                            <p:childTnLst>
                              <p:par>
                                <p:cTn id="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500"/>
                            </p:stCondLst>
                            <p:childTnLst>
                              <p:par>
                                <p:cTn id="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2000"/>
                            </p:stCondLst>
                            <p:childTnLst>
                              <p:par>
                                <p:cTn id="1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03280" y="282600"/>
            <a:ext cx="9074160" cy="11764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"/>
              </a:rPr>
              <a:t>Group Wor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03280" y="1646280"/>
            <a:ext cx="9074160" cy="6573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marL="368280" indent="-36828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i="1" lang="en-US" sz="3400" spc="-1" strike="noStrike">
                <a:solidFill>
                  <a:srgbClr val="000000"/>
                </a:solidFill>
                <a:latin typeface="Arial"/>
              </a:rPr>
              <a:t>2 ways depending on aim and childre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47640" y="4896000"/>
            <a:ext cx="309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Arial"/>
              </a:rPr>
              <a:t>Same question(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647640" y="3311640"/>
            <a:ext cx="43200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1510920" y="3311640"/>
            <a:ext cx="7308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16000" y="3384720"/>
            <a:ext cx="0" cy="12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92360" y="3529080"/>
            <a:ext cx="216000" cy="12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335640" y="2808360"/>
            <a:ext cx="30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2800" spc="-1" strike="noStrike">
                <a:solidFill>
                  <a:srgbClr val="cc00ff"/>
                </a:solidFill>
                <a:latin typeface="Arial"/>
              </a:rPr>
              <a:t>Ability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19280" y="5472000"/>
            <a:ext cx="87850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Regular / daily feed back of new lea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Constantly refer to the questions on the w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76360" y="2664000"/>
            <a:ext cx="324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2800" spc="-1" strike="noStrike">
                <a:solidFill>
                  <a:srgbClr val="cc00ff"/>
                </a:solidFill>
                <a:latin typeface="Arial"/>
              </a:rPr>
              <a:t>Mixed groups or ability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688000" y="5040360"/>
            <a:ext cx="316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Arial"/>
              </a:rPr>
              <a:t>Graded ques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5904000" y="3456000"/>
            <a:ext cx="503280" cy="12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6768720" y="3384720"/>
            <a:ext cx="142920" cy="151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343640" y="3384720"/>
            <a:ext cx="1800" cy="143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20000" y="3456000"/>
            <a:ext cx="21600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rot="20202000">
            <a:off x="287640" y="431280"/>
            <a:ext cx="244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2800" spc="-1" strike="noStrike" u="sng">
                <a:solidFill>
                  <a:srgbClr val="ff3300"/>
                </a:solidFill>
                <a:uFillTx/>
                <a:latin typeface="Arial"/>
              </a:rPr>
              <a:t>Go for depth not quant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rot="20053200">
            <a:off x="3416400" y="2825280"/>
            <a:ext cx="273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i="1" lang="en-US" sz="2800" spc="-1" strike="noStrike" u="sng">
                <a:solidFill>
                  <a:srgbClr val="ff3300"/>
                </a:solidFill>
                <a:uFillTx/>
                <a:latin typeface="Arial"/>
              </a:rPr>
              <a:t>Keep it simple- go for qu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792000" y="2160720"/>
            <a:ext cx="7848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HINAONE"/>
              </a:rPr>
              <a:t>Good Luck!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92000" y="4392720"/>
            <a:ext cx="489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Questions Commen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503280" y="3024360"/>
            <a:ext cx="9074160" cy="32796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marL="3682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682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68280" indent="-36828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Font typeface="Comic Sans MS"/>
              <a:buChar char="•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Inquiry is about having a question worth finding out about and then putting energy into finding out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682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68280" indent="-36828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Font typeface="Comic Sans MS"/>
              <a:buChar char="•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To help children be creative, analytical and responsive learner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682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title"/>
          </p:nvPr>
        </p:nvSpPr>
        <p:spPr>
          <a:xfrm>
            <a:off x="503280" y="282600"/>
            <a:ext cx="9074160" cy="11764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indent="0" algn="ctr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4800" spc="-1" strike="noStrike">
                <a:solidFill>
                  <a:srgbClr val="3333ff"/>
                </a:solidFill>
                <a:latin typeface="Arial"/>
              </a:rPr>
              <a:t>What is Inquiry Learning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19280" y="1511280"/>
            <a:ext cx="892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Inquiry learning is a </a:t>
            </a:r>
            <a:r>
              <a:rPr b="0" i="1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method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to be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used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not taugh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3280" y="282600"/>
            <a:ext cx="9074160" cy="11764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indent="0" algn="ctr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i="1" lang="en-US" sz="4800" spc="-1" strike="noStrike">
                <a:solidFill>
                  <a:srgbClr val="ff0066"/>
                </a:solidFill>
                <a:latin typeface="Arial"/>
              </a:rPr>
              <a:t>What it is NO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03280" y="1645920"/>
            <a:ext cx="9074160" cy="497844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marL="368280" indent="-36828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Comic Sans MS"/>
              <a:buChar char="•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Making a PowerPoint document with great pictures and transitions and other gimmick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682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68280" indent="-36828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Comic Sans MS"/>
              <a:buChar char="•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Putting stuff into a Topic Book and making it look pretty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682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68280" indent="-36828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Comic Sans MS"/>
              <a:buChar char="•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a place for individual work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16000" y="0"/>
            <a:ext cx="7056360" cy="70563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 txBox="1"/>
          <p:nvPr/>
        </p:nvSpPr>
        <p:spPr>
          <a:xfrm>
            <a:off x="3240000" y="4103640"/>
            <a:ext cx="6505560" cy="2732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This is an astronaut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flying to Venus</a:t>
            </a:r>
            <a:endParaRPr b="0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282600"/>
            <a:ext cx="9074160" cy="11764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Comic Sans MS"/>
              </a:rPr>
              <a:t>What it </a:t>
            </a:r>
            <a:r>
              <a:rPr b="0" i="1" lang="en-US" sz="5400" spc="-1" strike="noStrike" u="sng">
                <a:solidFill>
                  <a:srgbClr val="000000"/>
                </a:solidFill>
                <a:uFillTx/>
                <a:latin typeface="Comic Sans MS"/>
              </a:rPr>
              <a:t>is</a:t>
            </a:r>
            <a:r>
              <a:rPr b="0" i="1" lang="en-US" sz="4800" spc="-1" strike="noStrike">
                <a:solidFill>
                  <a:srgbClr val="000000"/>
                </a:solidFill>
                <a:latin typeface="Comic Sans MS"/>
              </a:rPr>
              <a:t> abou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3280" y="1439640"/>
            <a:ext cx="9074160" cy="51130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marL="368280" indent="-368280">
              <a:lnSpc>
                <a:spcPct val="90000"/>
              </a:lnSpc>
              <a:spcBef>
                <a:spcPts val="876"/>
              </a:spcBef>
              <a:buClr>
                <a:srgbClr val="3333ff"/>
              </a:buClr>
              <a:buFont typeface="Comic Sans MS"/>
              <a:buChar char="•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3500" spc="-1" strike="noStrike">
                <a:solidFill>
                  <a:srgbClr val="3333ff"/>
                </a:solidFill>
                <a:latin typeface="Comic Sans MS"/>
              </a:rPr>
              <a:t>Talking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3500" spc="-1" strike="noStrike">
                <a:solidFill>
                  <a:srgbClr val="ff0000"/>
                </a:solidFill>
                <a:latin typeface="Arial"/>
              </a:rPr>
              <a:t>sharing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3500" spc="-1" strike="noStrike">
                <a:solidFill>
                  <a:srgbClr val="a50021"/>
                </a:solidFill>
                <a:latin typeface="Arial"/>
              </a:rPr>
              <a:t>questioning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3500" spc="-1" strike="noStrike">
                <a:solidFill>
                  <a:srgbClr val="ff00ff"/>
                </a:solidFill>
                <a:latin typeface="Arial"/>
              </a:rPr>
              <a:t>finding out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3500" spc="-1" strike="noStrike" u="sng">
                <a:solidFill>
                  <a:srgbClr val="660066"/>
                </a:solidFill>
                <a:uFillTx/>
                <a:latin typeface="Arial"/>
              </a:rPr>
              <a:t>adjusting/refining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 thinking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682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68280" indent="-368280">
              <a:lnSpc>
                <a:spcPct val="90000"/>
              </a:lnSpc>
              <a:spcBef>
                <a:spcPts val="876"/>
              </a:spcBef>
              <a:buClr>
                <a:srgbClr val="ff0066"/>
              </a:buClr>
              <a:buFont typeface="Arial"/>
              <a:buChar char="•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3500" spc="-1" strike="noStrike">
                <a:solidFill>
                  <a:srgbClr val="ff0066"/>
                </a:solidFill>
                <a:latin typeface="Arial"/>
              </a:rPr>
              <a:t>sharing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 and talking and questioning and finding out and adjusting/refining thinking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682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68280" indent="-368280">
              <a:lnSpc>
                <a:spcPct val="90000"/>
              </a:lnSpc>
              <a:spcBef>
                <a:spcPts val="876"/>
              </a:spcBef>
              <a:buClr>
                <a:srgbClr val="a50021"/>
              </a:buClr>
              <a:buFont typeface="Arial"/>
              <a:buChar char="•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3500" spc="-1" strike="noStrike">
                <a:solidFill>
                  <a:srgbClr val="a50021"/>
                </a:solidFill>
                <a:latin typeface="Arial"/>
              </a:rPr>
              <a:t>questioning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 and sharing and talking and finding out and adjusting/refining thinking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682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68280" indent="-368280">
              <a:lnSpc>
                <a:spcPct val="90000"/>
              </a:lnSpc>
              <a:spcBef>
                <a:spcPts val="876"/>
              </a:spcBef>
              <a:buClr>
                <a:srgbClr val="ff00ff"/>
              </a:buClr>
              <a:buFont typeface="Arial"/>
              <a:buChar char="•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3500" spc="-1" strike="noStrike">
                <a:solidFill>
                  <a:srgbClr val="ff00ff"/>
                </a:solidFill>
                <a:latin typeface="Arial"/>
              </a:rPr>
              <a:t>finding out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 and talking and questioning and sharing and adjusting/refining thinking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31640" y="863640"/>
            <a:ext cx="9074160" cy="54007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 fontScale="97000"/>
          </a:bodyPr>
          <a:p>
            <a:pPr marL="357120" indent="-357120">
              <a:lnSpc>
                <a:spcPct val="90000"/>
              </a:lnSpc>
              <a:spcBef>
                <a:spcPts val="1001"/>
              </a:spcBef>
              <a:buClr>
                <a:srgbClr val="ff3300"/>
              </a:buClr>
              <a:buFont typeface="Comic Sans MS"/>
              <a:buChar char="•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Comic Sans MS"/>
              </a:rPr>
              <a:t>Children to b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71120" indent="-295200">
              <a:lnSpc>
                <a:spcPct val="90000"/>
              </a:lnSpc>
              <a:spcBef>
                <a:spcPts val="1001"/>
              </a:spcBef>
              <a:buClr>
                <a:srgbClr val="ff3300"/>
              </a:buClr>
              <a:buFont typeface="Comic Sans MS"/>
              <a:buChar char="–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Comic Sans MS"/>
              </a:rPr>
              <a:t>Think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711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71120" indent="-295200">
              <a:lnSpc>
                <a:spcPct val="90000"/>
              </a:lnSpc>
              <a:spcBef>
                <a:spcPts val="1001"/>
              </a:spcBef>
              <a:buClr>
                <a:srgbClr val="ff3300"/>
              </a:buClr>
              <a:buFont typeface="Comic Sans MS"/>
              <a:buChar char="–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Comic Sans MS"/>
              </a:rPr>
              <a:t>Critical, creative, analytical think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711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71120" indent="-295200">
              <a:lnSpc>
                <a:spcPct val="90000"/>
              </a:lnSpc>
              <a:spcBef>
                <a:spcPts val="1001"/>
              </a:spcBef>
              <a:buClr>
                <a:srgbClr val="ff3300"/>
              </a:buClr>
              <a:buFont typeface="Comic Sans MS"/>
              <a:buChar char="–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Comic Sans MS"/>
              </a:rPr>
              <a:t>Colaborative workers/think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360360" y="1079640"/>
            <a:ext cx="9074160" cy="46576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marL="368280" indent="0">
              <a:spcBef>
                <a:spcPts val="425"/>
              </a:spcBef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e sooner we remove the focus 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68280" indent="0">
              <a:spcBef>
                <a:spcPts val="425"/>
              </a:spcBef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(in some cases the paranoia)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68280" indent="0">
              <a:spcBef>
                <a:spcPts val="425"/>
              </a:spcBef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on written language being the 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primary 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ommunication tool for adults (and kids),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68280" indent="0">
              <a:spcBef>
                <a:spcPts val="425"/>
              </a:spcBef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68280" indent="0">
              <a:spcBef>
                <a:spcPts val="425"/>
              </a:spcBef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e sooner we can communicate more effectively and more efficiently our ideas, concerns and our visions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36320" y="934920"/>
            <a:ext cx="9070920" cy="532944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marL="368280" indent="-368280">
              <a:lnSpc>
                <a:spcPct val="90000"/>
              </a:lnSpc>
              <a:spcBef>
                <a:spcPts val="751"/>
              </a:spcBef>
              <a:buClr>
                <a:srgbClr val="660066"/>
              </a:buClr>
              <a:buFont typeface="Arial"/>
              <a:buChar char="•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3000" spc="-1" strike="noStrike" u="sng">
                <a:solidFill>
                  <a:srgbClr val="660066"/>
                </a:solidFill>
                <a:uFillTx/>
                <a:latin typeface="Arial"/>
              </a:rPr>
              <a:t>adjusting/refining/extending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thinking can only be accomplished through talking as children engage with each other and discuss the concept or ide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682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68280" indent="-3682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e need to note that we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cannot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get Higher Order Thinking through lots of written work.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682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68280" indent="-368280">
              <a:lnSpc>
                <a:spcPct val="90000"/>
              </a:lnSpc>
              <a:spcBef>
                <a:spcPts val="751"/>
              </a:spcBef>
              <a:buClr>
                <a:srgbClr val="ff3300"/>
              </a:buClr>
              <a:buFont typeface="Comic Sans MS"/>
              <a:buChar char="•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i="1" lang="en-US" sz="3000" spc="-1" strike="noStrike">
                <a:solidFill>
                  <a:srgbClr val="ff3300"/>
                </a:solidFill>
                <a:latin typeface="Comic Sans MS"/>
              </a:rPr>
              <a:t>Asking tough questions can often be derailed by having to write about it.  It is the talking, thinking and learning that is important and not the written stuff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3T22:09:54Z</dcterms:created>
  <dc:creator>Administrator</dc:creator>
  <dc:description/>
  <dc:language>en-US</dc:language>
  <cp:lastModifiedBy>Administrator</cp:lastModifiedBy>
  <dcterms:modified xsi:type="dcterms:W3CDTF">2008-07-31T02:17:19Z</dcterms:modified>
  <cp:revision>31</cp:revision>
  <dc:subject/>
  <dc:title>What is Inquiry Learning?</dc:title>
</cp:coreProperties>
</file>