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056438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58A1-C5BA-45BA-B07A-6BD7009A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7916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8610-7D6D-453F-9270-A9FA4065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C303-3FB1-4612-99E1-16CF7AA7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64628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079160"/>
            <a:ext cx="29217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4BD-4EB3-4625-A740-7A2057F1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B27-ED35-4E11-A751-A2912DFF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2CA-734E-4810-AB94-DDDABEA9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5A9-E229-40D6-9BB2-E5090F41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2EA-B12B-4374-B80C-2B0D566D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82600"/>
            <a:ext cx="907416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6A9-44A8-4973-971C-CBF786B9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B49-2D1D-497F-A57B-3C58CF93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07916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C03-D136-4079-BD47-74A5D788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646280"/>
            <a:ext cx="442800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79160"/>
            <a:ext cx="9074160" cy="22215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A9D-105C-44EE-AF1F-376C6B0A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62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62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426360"/>
            <a:ext cx="235440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426360"/>
            <a:ext cx="319104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3040" y="6426360"/>
            <a:ext cx="2354400" cy="490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3932D05-31EC-44DB-AAE0-196D1F0C4681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NZ" sz="3400" spc="-1" strike="noStrike">
                <a:solidFill>
                  <a:srgbClr val="000000"/>
                </a:solidFill>
                <a:latin typeface="Arial"/>
              </a:rPr>
              <a:t>Levels of Inqui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Guid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Negotiat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165200">
            <a:off x="5616360" y="1368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Lucida Handwriting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599600">
            <a:off x="2664360" y="4463640"/>
            <a:ext cx="46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200" spc="-1" strike="noStrike">
                <a:solidFill>
                  <a:srgbClr val="3366ff"/>
                </a:solidFill>
                <a:latin typeface="Comic Sans MS"/>
              </a:rPr>
              <a:t>Go for depth not  brea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6000" spc="-1" strike="noStrike">
                <a:solidFill>
                  <a:srgbClr val="0000ff"/>
                </a:solidFill>
                <a:latin typeface="Comic Sans MS"/>
              </a:rPr>
              <a:t>Guided Inqui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6360" y="3311640"/>
            <a:ext cx="900108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3333ff"/>
                </a:solidFill>
                <a:latin typeface="Arial"/>
              </a:rPr>
              <a:t>*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3600" spc="-1" strike="noStrike">
                <a:solidFill>
                  <a:srgbClr val="000000"/>
                </a:solidFill>
                <a:latin typeface="Arial"/>
              </a:rPr>
              <a:t>What planning must I do?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(Disregard the ‘no-planning myth’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424400">
            <a:off x="4836600" y="253692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Lucida Handwriting"/>
              </a:rPr>
              <a:t>What do I want them to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4520" y="268200"/>
            <a:ext cx="5956200" cy="6222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08600" y="712800"/>
            <a:ext cx="313380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about……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if…………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at do you think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How do/would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I wonder……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cc00ff"/>
                </a:solidFill>
                <a:latin typeface="Comic Sans MS"/>
              </a:rPr>
              <a:t>who/when/why/i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6680" y="1527120"/>
            <a:ext cx="1269720" cy="828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otiv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1160" y="787320"/>
            <a:ext cx="1430280" cy="666720"/>
          </a:xfrm>
          <a:custGeom>
            <a:avLst/>
            <a:gdLst/>
            <a:ahLst/>
            <a:rect l="l" t="t" r="r" b="b"/>
            <a:pathLst>
              <a:path w="771" h="408">
                <a:moveTo>
                  <a:pt x="0" y="408"/>
                </a:moveTo>
                <a:cubicBezTo>
                  <a:pt x="49" y="249"/>
                  <a:pt x="98" y="90"/>
                  <a:pt x="226" y="45"/>
                </a:cubicBezTo>
                <a:cubicBezTo>
                  <a:pt x="354" y="0"/>
                  <a:pt x="673" y="121"/>
                  <a:pt x="771" y="136"/>
                </a:cubicBezTo>
              </a:path>
            </a:pathLst>
          </a:custGeom>
          <a:noFill/>
          <a:ln w="698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154600">
            <a:off x="6051600" y="5229000"/>
            <a:ext cx="333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Lucida Handwriting"/>
              </a:rPr>
              <a:t>Go for depth of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Authentic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"/>
              </a:rPr>
              <a:t>Valid foc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9966ff"/>
                </a:solidFill>
                <a:latin typeface="Comic Sans MS"/>
              </a:rPr>
              <a:t>What planets are in spac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9966ff"/>
                </a:solidFill>
                <a:latin typeface="Comic Sans MS"/>
              </a:rPr>
              <a:t>Why / How do we have night and da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1640" y="122400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lin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ntly revisiting previous whe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reviewing, revisiting, questioning throughout the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‘right’ answers.  Tentative point of view to be investig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31640" y="352908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ter wonderings leading to ques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form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makes a list of main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to get you started in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3640" y="431640"/>
            <a:ext cx="8713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t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m interested, raise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derings, questions, gener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tell them ahead of time what y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going to do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r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36720" y="360360"/>
            <a:ext cx="8640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liminary knowledge /T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this children can’t ask inform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or in-dep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important –Lyn Ross and Mark Tread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640" y="244800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rtile / Key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s help a key or fertile question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ed and then subsidiary ques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d, Keeping the focus narrow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able and in-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280" y="5184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int of view –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response or point of view even if wrong -this gets them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0360" y="190440"/>
            <a:ext cx="92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arch –discovery –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not to try and find the answer but to gain deeper understanding and knowledge as you continually focus on the key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000" y="2664000"/>
            <a:ext cx="94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ider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we got a reasonable understanding or point of view to talk constructively about the key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7280" y="4402080"/>
            <a:ext cx="9360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re /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a few pictures, posters, a lot of oral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hat impacts other or that you can apply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79640" y="-274680"/>
            <a:ext cx="8064360" cy="76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3319" t="506" r="0" b="0"/>
          <a:stretch/>
        </p:blipFill>
        <p:spPr>
          <a:xfrm>
            <a:off x="863640" y="576360"/>
            <a:ext cx="864864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1439640"/>
            <a:ext cx="9074160" cy="2592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Inquiry Learni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rot="329400">
            <a:off x="-374400" y="-864720"/>
            <a:ext cx="11449080" cy="4392360"/>
          </a:xfrm>
          <a:prstGeom prst="irregularSeal2">
            <a:avLst/>
          </a:prstGeom>
          <a:solidFill>
            <a:srgbClr val="99ffcc"/>
          </a:solidFill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431640"/>
            <a:ext cx="885672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Monotype Corsiva"/>
              </a:rPr>
              <a:t>How do I keep from getting </a:t>
            </a:r>
            <a:r>
              <a:rPr b="0" lang="en-US" sz="6600" spc="-1" strike="noStrike">
                <a:solidFill>
                  <a:srgbClr val="008000"/>
                </a:solidFill>
                <a:latin typeface="Monotype Corsiva"/>
              </a:rPr>
              <a:t>Green </a:t>
            </a:r>
            <a:r>
              <a:rPr b="0" lang="en-US" sz="9600" spc="-1" strike="noStrike">
                <a:solidFill>
                  <a:srgbClr val="006600"/>
                </a:solidFill>
                <a:latin typeface="Chiller"/>
              </a:rPr>
              <a:t>Snot</a:t>
            </a:r>
            <a:r>
              <a:rPr b="0" lang="en-US" sz="6600" spc="-1" strike="noStrike">
                <a:solidFill>
                  <a:srgbClr val="006600"/>
                </a:solidFill>
                <a:latin typeface="comic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77080" y="453708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Why is it gr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67200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What do I do  to help others to not g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"/>
              </a:rPr>
              <a:t>Green S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280" y="5400720"/>
            <a:ext cx="56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is a virus and how do I not ge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61080" y="309564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What do I do to not get the fl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14920" y="59040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Does medicin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Group 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646280"/>
            <a:ext cx="9074160" cy="657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2 ways depending on aim and childr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640" y="489600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ame ques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47640" y="3311640"/>
            <a:ext cx="43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510920" y="3311640"/>
            <a:ext cx="73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16000" y="338472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2360" y="3529080"/>
            <a:ext cx="216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35640" y="2808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Abilit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9280" y="5472000"/>
            <a:ext cx="87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Regular / daily feed back of new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onstantly refer to the questions on the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360" y="266400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Mixed groups or abilit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88000" y="50403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Grad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04000" y="3456000"/>
            <a:ext cx="50328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768720" y="3384720"/>
            <a:ext cx="1429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43640" y="338472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20000" y="3456000"/>
            <a:ext cx="21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202000">
            <a:off x="287640" y="43128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Go for depth not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053200">
            <a:off x="3416400" y="282528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Keep it simple- go fo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92000" y="21607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HINAONE"/>
              </a:rPr>
              <a:t>Good Luck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2000" y="439272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03280" y="3024360"/>
            <a:ext cx="9074160" cy="32796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nquiry is about having a question worth finding out about and then putting energy into finding ou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o help children be creative, analytical and responsive learn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What is Inquiry Learn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9280" y="1511280"/>
            <a:ext cx="89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quiry learning is a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etho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b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us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not 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4800" spc="-1" strike="noStrike">
                <a:solidFill>
                  <a:srgbClr val="ff0066"/>
                </a:solidFill>
                <a:latin typeface="Arial"/>
              </a:rPr>
              <a:t>What it is N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645920"/>
            <a:ext cx="9074160" cy="4978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aking a PowerPoint document with great pictures and transitions and other gimmic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utting stuff into a Topic Book and making it look pret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 place for individual w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6000" y="0"/>
            <a:ext cx="7056360" cy="705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40000" y="4103640"/>
            <a:ext cx="6505560" cy="27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is is an astronaut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lying to Venu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74160" cy="1176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What it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is</a:t>
            </a: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 abo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439640"/>
            <a:ext cx="9074160" cy="5113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3333ff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3333ff"/>
                </a:solidFill>
                <a:latin typeface="Comic Sans MS"/>
              </a:rPr>
              <a:t>Talk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shar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a50021"/>
                </a:solidFill>
                <a:latin typeface="Arial"/>
              </a:rPr>
              <a:t>questio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>
                <a:solidFill>
                  <a:srgbClr val="ff00ff"/>
                </a:solidFill>
                <a:latin typeface="Arial"/>
              </a:rPr>
              <a:t>finding ou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500" spc="-1" strike="noStrike" u="sng">
                <a:solidFill>
                  <a:srgbClr val="660066"/>
                </a:solidFill>
                <a:uFillTx/>
                <a:latin typeface="Arial"/>
              </a:rPr>
              <a:t>adjusting/refi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ff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ff0066"/>
                </a:solidFill>
                <a:latin typeface="Arial"/>
              </a:rPr>
              <a:t>shar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talking and questioning and finding out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a50021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a50021"/>
                </a:solidFill>
                <a:latin typeface="Arial"/>
              </a:rPr>
              <a:t>questioning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sharing and talking and finding out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876"/>
              </a:spcBef>
              <a:buClr>
                <a:srgbClr val="ff00ff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Arial"/>
              </a:rPr>
              <a:t>finding ou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and talking and questioning and sharing and adjusting/refining thin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1640" y="863640"/>
            <a:ext cx="9074160" cy="5400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7000"/>
          </a:bodyPr>
          <a:p>
            <a:pPr marL="357120" indent="-35712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hildren to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ritical, creative, analytical 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29520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olaborative workers/thin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0360" y="1079640"/>
            <a:ext cx="9074160" cy="4657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ooner we remove the focus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in some cases the paranoia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n written language being the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unication tool for adults (and kids)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ooner we can communicate more effectively and more efficiently our ideas, concerns and our vis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6320" y="934920"/>
            <a:ext cx="9070920" cy="5329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adjusting/refining/extend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inking can only be accomplished through talking as children engage with each other and discuss the concept or id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need to note that w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t Higher Order Thinking through lots of written work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3000" spc="-1" strike="noStrike">
                <a:solidFill>
                  <a:srgbClr val="ff3300"/>
                </a:solidFill>
                <a:latin typeface="Comic Sans MS"/>
              </a:rPr>
              <a:t>Asking tough questions can often be derailed by having to write about it.  It is the talking, thinking and learning that is important and not the written stuf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22:09:54Z</dcterms:created>
  <dc:creator>Administrator</dc:creator>
  <dc:description/>
  <dc:language>en-US</dc:language>
  <cp:lastModifiedBy>Administrator</cp:lastModifiedBy>
  <dcterms:modified xsi:type="dcterms:W3CDTF">2008-07-31T02:17:19Z</dcterms:modified>
  <cp:revision>31</cp:revision>
  <dc:subject/>
  <dc:title>What is Inquiry Learning?</dc:title>
</cp:coreProperties>
</file>