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B2FE-6A57-4C29-9B6B-BBF462683B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753E-90B0-459C-9BFD-6BA90F7E0E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5AD4-8ABB-4741-B5CE-502BE5F727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D69A-8595-4A3E-AE8D-EA9E238E3B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A5EA-1C0C-40B7-85B7-CF92690382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5927-2CE0-4C8E-AC83-9F675C13EF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FBE2-677A-4F38-B635-52EF0C1E9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F401-6692-4220-AF8F-1A0C8630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160B-91BB-4F42-8612-FF5FF9522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AE60-0690-425D-9904-E000187BF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5020-9F94-47D6-A30B-B714A57F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5009-CE97-4F86-9CCD-1CF96533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8D14-8FA1-491B-9263-0F67143C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388D-598B-48C5-BD3A-09465203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DEDA-D447-4AFC-9559-1794C415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797F-A674-4B8A-860E-A2039AB2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42BB-4719-4067-BC2A-42E5B233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79FA-025B-46D0-8B45-8492A268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8904-8E7C-473F-8773-5C152D64FE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ea.co.nz/thethinkbag/index.asp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creativethinkingulearn.wikispaces.com/Thinking+Tools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://www.thinkport.org/Technology/template.tp" TargetMode="External"/><Relationship Id="rId6" Type="http://schemas.openxmlformats.org/officeDocument/2006/relationships/image" Target="../media/image4.png"/><Relationship Id="rId7" Type="http://schemas.openxmlformats.org/officeDocument/2006/relationships/hyperlink" Target="http://www.tonyryan.com.au/" TargetMode="External"/><Relationship Id="rId8" Type="http://schemas.openxmlformats.org/officeDocument/2006/relationships/image" Target="../media/image5.png"/><Relationship Id="rId9" Type="http://schemas.openxmlformats.org/officeDocument/2006/relationships/hyperlink" Target="http://centre4.interact.ac.nz/modules/folder/folder.php?space_key=368&amp;module_key=28260&amp;link_key=28136&amp;group_key=0" TargetMode="External"/><Relationship Id="rId10" Type="http://schemas.openxmlformats.org/officeDocument/2006/relationships/image" Target="../media/image6.jpeg"/><Relationship Id="rId11" Type="http://schemas.openxmlformats.org/officeDocument/2006/relationships/hyperlink" Target="http://www.thinkport.org/Technology/template.tp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4429080" y="3443400"/>
            <a:ext cx="4286160" cy="34146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785880" y="285840"/>
            <a:ext cx="75722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vantGarde Md BT"/>
              </a:rPr>
              <a:t>Thinking Tools – Time for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vantGarde Md BT"/>
              </a:rPr>
              <a:t>How can we use thinking tools to enh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vantGarde Md BT"/>
              </a:rPr>
              <a:t>teaching and learning in our scho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857160" y="928800"/>
            <a:ext cx="7500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vantGarde Md BT"/>
              </a:rPr>
              <a:t>Which framework will we `hang’  thinking tools on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vantGarde Md BT"/>
              </a:rPr>
              <a:t>How does this framework compare with Bloom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vantGarde Md BT"/>
              </a:rPr>
              <a:t>Where do we want to get to by end of this mee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4429080" y="3443400"/>
            <a:ext cx="428616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 rot="786000">
            <a:off x="3141360" y="244440"/>
            <a:ext cx="2398680" cy="2152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>
            <a:hlinkClick r:id="rId3"/>
          </p:cNvPr>
          <p:cNvPicPr/>
          <p:nvPr/>
        </p:nvPicPr>
        <p:blipFill>
          <a:blip r:embed="rId4"/>
          <a:stretch/>
        </p:blipFill>
        <p:spPr>
          <a:xfrm rot="266400">
            <a:off x="5848200" y="41868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>
            <a:hlinkClick r:id="rId5"/>
          </p:cNvPr>
          <p:cNvPicPr/>
          <p:nvPr/>
        </p:nvPicPr>
        <p:blipFill>
          <a:blip r:embed="rId6"/>
          <a:stretch/>
        </p:blipFill>
        <p:spPr>
          <a:xfrm rot="20812800">
            <a:off x="949320" y="514080"/>
            <a:ext cx="1643040" cy="2263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>
            <a:hlinkClick r:id="rId7"/>
          </p:cNvPr>
          <p:cNvPicPr/>
          <p:nvPr/>
        </p:nvPicPr>
        <p:blipFill>
          <a:blip r:embed="rId8"/>
          <a:stretch/>
        </p:blipFill>
        <p:spPr>
          <a:xfrm rot="20722800">
            <a:off x="790560" y="2676240"/>
            <a:ext cx="2800440" cy="2100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DSC02157.JPG">
            <a:hlinkClick r:id="rId9"/>
          </p:cNvPr>
          <p:cNvPicPr/>
          <p:nvPr/>
        </p:nvPicPr>
        <p:blipFill>
          <a:blip r:embed="rId10"/>
          <a:stretch/>
        </p:blipFill>
        <p:spPr>
          <a:xfrm rot="875400">
            <a:off x="4905000" y="2490840"/>
            <a:ext cx="2428920" cy="182232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0" y="50007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http://www.thinkport.org/Technology/template.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tonyryan.com.a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reativethinkingulearn.wikispaces.com/Thinking+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entre4.interact.ac.nz/modules/folder/folder.php?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key=368&amp;module_key=28260&amp;link_key=28136&amp;group_key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-3429360" y="1600200"/>
            <a:ext cx="1293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429080" y="3443400"/>
            <a:ext cx="4286160" cy="341460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642960" y="642960"/>
            <a:ext cx="792972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vantGarde Md BT"/>
              </a:rPr>
              <a:t>For each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vantGarde Md BT"/>
              </a:rPr>
              <a:t>Which tools do we currently use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vantGarde Md BT"/>
              </a:rPr>
              <a:t>Which have we found to be effect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vantGarde Md BT"/>
              </a:rPr>
              <a:t>What other tools are we aware of that may enhance thinking at this level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vantGarde Md BT"/>
              </a:rPr>
              <a:t>What els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What needs to happen now to support transfer of this resource to the classro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4429080" y="3443400"/>
            <a:ext cx="428616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3T09:36:31Z</dcterms:created>
  <dc:creator>rjensen</dc:creator>
  <dc:description/>
  <dc:language>en-US</dc:language>
  <cp:lastModifiedBy>rjensen</cp:lastModifiedBy>
  <dcterms:modified xsi:type="dcterms:W3CDTF">2008-06-25T01:08:58Z</dcterms:modified>
  <cp:revision>12</cp:revision>
  <dc:subject/>
  <dc:title>Slide 1</dc:title>
</cp:coreProperties>
</file>