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F40-92A6-43D8-87A4-49B8CB7E8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BF8-73F0-48B6-85F6-1B52A29F2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A87-FA09-4A7D-A90F-DE54B30E8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483-0793-4BC2-8663-BE88596B6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CEE0-A808-4957-A616-29EE86864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589B-3A8A-4905-A552-DCF19E043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43D-0C6A-4360-9D20-1457BE39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4A7-2D18-4712-BEAC-7FDA86A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660-0F1F-422F-A782-EB41958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F84-B5C6-4542-B952-BF1F820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D07-4987-48BC-98C8-9E31764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40B-07AC-418A-9E9B-4355D26C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ADA-1112-494A-853E-F7681D49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855-D5CB-45EF-804F-35022DF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C0-04DB-4083-9EEE-95A708DE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219-A5A6-4EAB-9207-F0D9FBC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DA9-5CE9-4057-ACF7-0083692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83F-91FB-4171-84FC-2517CAA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1FE8-ABA7-479F-94CE-1973D94E9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creativethinkingulearn.wikispaces.com/Thinking+Tool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hinkport.org/Technology/template.tp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onyryan.com.au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centre4.interact.ac.nz/modules/folder/folder.php?space_key=368&amp;module_key=28260&amp;link_key=28136&amp;group_key=0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thinkport.org/Technology/template.tp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141360" y="244440"/>
            <a:ext cx="239868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66400">
            <a:off x="584820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722800">
            <a:off x="790560" y="267624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SC02157.JPG">
            <a:hlinkClick r:id="rId9"/>
          </p:cNvPr>
          <p:cNvPicPr/>
          <p:nvPr/>
        </p:nvPicPr>
        <p:blipFill>
          <a:blip r:embed="rId10"/>
          <a:stretch/>
        </p:blipFill>
        <p:spPr>
          <a:xfrm rot="875400">
            <a:off x="4905000" y="249084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0" y="500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thinkport.org/Technology/template.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onyryan.com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eativethinkingulearn.wikispaces.com/Thinking+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entre4.interact.ac.nz/modules/folder/folder.php?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key=368&amp;module_key=28260&amp;link_key=28136&amp;group_ke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5T01:08:58Z</dcterms:modified>
  <cp:revision>12</cp:revision>
  <dc:subject/>
  <dc:title>Slide 1</dc:title>
</cp:coreProperties>
</file>