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C24A-8188-460B-A034-E799767BC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3C3B-7E0E-46CA-A083-A289E7ADE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665D-007A-48F4-843D-7AC110C0A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A79E-E1A0-4881-9195-C3D81C498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9F4-96ED-477E-B50C-31C682F99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7C80-38F3-46CC-98AD-BBC4B343D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311-53BB-4950-B381-BA987219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09B-0860-46AC-A5FB-9AFDFE04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7D7-C388-486F-90F7-20BD1B88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678-7171-4D95-8565-B771CDF6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039-6D3E-44F3-82A8-F25926FD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2C1-1AA2-4FEA-B4AA-F5A19373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62C-B01C-430A-B28C-1A31C7FF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0F4-CFE1-4140-ADFC-7563780C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0B8-EB56-4DFC-82EC-A512F099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B36-09AB-43BF-ACAC-53ED3C0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A07-4512-43AF-9028-8ADA7C42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35B-80FE-494D-B11F-726A33F7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E7EB-4A37-4CBF-AAAE-B3FF40ADB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creativethinkingulearn.wikispaces.com/Thinking+Tools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thinkport.org/Technology/template.tp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tonyryan.com.au/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centre4.interact.ac.nz/modules/folder/folder.php?space_key=368&amp;module_key=28260&amp;link_key=28136&amp;group_key=0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thinkport.org/Technology/template.tp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141360" y="244440"/>
            <a:ext cx="2398680" cy="21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66400">
            <a:off x="584820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722800">
            <a:off x="790560" y="2676240"/>
            <a:ext cx="2800440" cy="21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DSC02157.JPG">
            <a:hlinkClick r:id="rId9"/>
          </p:cNvPr>
          <p:cNvPicPr/>
          <p:nvPr/>
        </p:nvPicPr>
        <p:blipFill>
          <a:blip r:embed="rId10"/>
          <a:stretch/>
        </p:blipFill>
        <p:spPr>
          <a:xfrm rot="875400">
            <a:off x="4905000" y="2490840"/>
            <a:ext cx="242892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0" y="5000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thinkport.org/Technology/template.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onyryan.com.a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reativethinkingulearn.wikispaces.com/Thinking+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entre4.interact.ac.nz/modules/folder/folder.php?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key=368&amp;module_key=28260&amp;link_key=28136&amp;group_key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5T01:08:58Z</dcterms:modified>
  <cp:revision>12</cp:revision>
  <dc:subject/>
  <dc:title>Slide 1</dc:title>
</cp:coreProperties>
</file>