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B705-A3BA-4672-87F1-1BBC5E9CE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D334-7A19-475B-949E-8DB8B1688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31A7-41D9-42F6-BA36-9CED15C0F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1068-06D2-4FE9-BF5A-F90C32330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E600-943E-4FB0-B0AB-219302D9E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D3AA-1825-4556-8F95-E9116D290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6A1-9028-4ECC-9A7F-9A853B9D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482-F04B-4A70-964B-D2EFC383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29E-1B51-4E8A-93CE-609A3B2F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C71-FE09-4581-81DE-DFD6CEC2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787-0BAC-4DC6-A4BE-37A5A29F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23C-E285-4E35-A010-CDD93E92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DB3-9CE4-461A-8DE8-0FF2670A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F1F-E94A-4797-85D1-2D26049E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F1F-4AD1-4A93-9204-0D0E0AA0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135-A170-469F-9178-5D59F6D4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21A-D97E-4908-9C1A-F582306C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BE8-0EFB-4F35-9730-B0CC64A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E87B-81F0-4DAA-8BCC-9C0403B96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.co.nz/thethinkbag/index.asp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creativethinkingulearn.wikispaces.com/Thinking+Tools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thinkport.org/Technology/template.tp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tonyryan.com.au/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centre4.interact.ac.nz/modules/folder/folder.php?space_key=368&amp;module_key=28260&amp;link_key=28136&amp;group_key=0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thinkport.org/Technology/template.tp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785880" y="285840"/>
            <a:ext cx="7572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vantGarde Md BT"/>
              </a:rPr>
              <a:t>Thinking Tools – Time fo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can we use thinking tools to enh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teaching and learning in our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857160" y="928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ich framework will we `hang’  thinking tools 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does this framework compare with Bloo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ere do we want to get to by end of this me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6000">
            <a:off x="3141360" y="244440"/>
            <a:ext cx="2398680" cy="21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66400">
            <a:off x="5848200" y="418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 rot="20812800">
            <a:off x="949320" y="514080"/>
            <a:ext cx="1643040" cy="226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722800">
            <a:off x="790560" y="2676240"/>
            <a:ext cx="2800440" cy="21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DSC02157.JPG">
            <a:hlinkClick r:id="rId9"/>
          </p:cNvPr>
          <p:cNvPicPr/>
          <p:nvPr/>
        </p:nvPicPr>
        <p:blipFill>
          <a:blip r:embed="rId10"/>
          <a:stretch/>
        </p:blipFill>
        <p:spPr>
          <a:xfrm rot="875400">
            <a:off x="4905000" y="2490840"/>
            <a:ext cx="2428920" cy="1822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0" y="5000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thinkport.org/Technology/template.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onyryan.com.a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reativethinkingulearn.wikispaces.com/Thinking+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entre4.interact.ac.nz/modules/folder/folder.php?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key=368&amp;module_key=28260&amp;link_key=28136&amp;group_key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3429360" y="1600200"/>
            <a:ext cx="1293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642960" y="642960"/>
            <a:ext cx="792972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vantGarde Md BT"/>
              </a:rPr>
              <a:t>For each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tools do we currently us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have we found to be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other tools are we aware of that may enhance thinking at this leve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el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needs to happen now to support transfer of this resource to the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9:36:31Z</dcterms:created>
  <dc:creator>rjensen</dc:creator>
  <dc:description/>
  <dc:language>en-US</dc:language>
  <cp:lastModifiedBy>rjensen</cp:lastModifiedBy>
  <dcterms:modified xsi:type="dcterms:W3CDTF">2008-06-25T01:08:58Z</dcterms:modified>
  <cp:revision>12</cp:revision>
  <dc:subject/>
  <dc:title>Slide 1</dc:title>
</cp:coreProperties>
</file>