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94C-D21F-4516-86AE-E7EF96A9F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aare- Karaki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Mihi – Rock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Objectives – Thinking Tools – Time for A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Assuming – tch kids to think impt- thinking tools can ass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How can we use thinking tools enhance teaching and learning in our school/syndicate? Use this mtg make some ground with thi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Btw us lots of new content – Fragenheim/ Pohl/ Rochelle Williams/ Andrew Churches/ Tchs eXperiences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oday –not about a whole lot more, pooling, sharing expertise in the room to construct sth useful to aid in the tch of thinking at this school.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We all got sth valuable to share – go round room – Eric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70C-F9CA-47FB-B355-63DB89D27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Key Competencie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Bloom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Inquiry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ere do we want to get to by end of this meeting?  What framework will we base this discussion on - Te Puna Scho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nd of mtg: repertoire of tools that can assist at each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8415-244F-4DEC-871E-34F6DBE91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1591-DAE7-4A55-876E-D9D72CED2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nce we know the framework. 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ach level - What do we currently use? Think Pair Share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w can these be organised? – jnr /middle /sn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else?   Look at other resources – think bag – Resourc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helle williams/michael pohl /eric frageheim/think bag/andrew chu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B8A6-FB98-43E5-9B78-D7CE49494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nking inf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rganisation of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588-7E56-4A0F-833F-3FEB2CEF8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A2C-8F18-4B51-B0F4-CA3EDC071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8E0-964B-4165-8348-00CBD806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DDD-94B4-4DD9-BB36-C8249AD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1E7-4429-4DE8-8764-0E2A8629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421-A1AA-4C12-AFDA-661E3511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8BA6-0218-4869-B00F-139847E2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1C7-89CD-4B2A-AA95-A97447A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65C5-C1B1-4D0F-8762-14788825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BED-CF19-481A-87FE-DA6C36D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42CC-1396-4834-8398-7D1E0501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3030-C64B-4616-A6CD-EC7E1071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E4DC-0D17-4C67-ADE5-7863B42E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BD9-3289-4EC3-9E90-A32E5E4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B99B-7EA0-4B87-B1E0-F05BC30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DEC3-6C85-423B-85C5-D87F8A8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398-2157-43ED-A9D1-BA53EC3B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8542-F91B-49FC-80F3-EA27F2EB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00E1-8C88-45D1-98D5-E4F2DC55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951-98EA-40FC-AB1E-46F391F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9E0-4EBF-4A26-98FC-AE944602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E74-9EEB-43D5-A7EE-AED493AC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DE0-9E75-45A3-A222-D13ACF6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B3E-30AB-4336-AA05-C5B4DC2A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10F-BEA5-47C0-A5A0-F4555D5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9E3-2845-4FD8-BBAB-DAD4B3F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6470-E51F-44C9-8054-FCEEB79EE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45BD-93BE-43B1-8FC9-3A062AFC2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498480" y="530280"/>
            <a:ext cx="239868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266400">
            <a:off x="641988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 rot="20722800">
            <a:off x="1571760" y="3499920"/>
            <a:ext cx="2800080" cy="21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157.JPG"/>
          <p:cNvPicPr/>
          <p:nvPr/>
        </p:nvPicPr>
        <p:blipFill>
          <a:blip r:embed="rId6"/>
          <a:stretch/>
        </p:blipFill>
        <p:spPr>
          <a:xfrm rot="875400">
            <a:off x="5762160" y="320508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tools and units 3"/>
          <p:cNvPicPr/>
          <p:nvPr/>
        </p:nvPicPr>
        <p:blipFill>
          <a:blip r:embed="rId1"/>
          <a:stretch/>
        </p:blipFill>
        <p:spPr>
          <a:xfrm>
            <a:off x="108000" y="260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tools and units"/>
          <p:cNvPicPr/>
          <p:nvPr/>
        </p:nvPicPr>
        <p:blipFill>
          <a:blip r:embed="rId2"/>
          <a:stretch/>
        </p:blipFill>
        <p:spPr>
          <a:xfrm>
            <a:off x="4572000" y="260280"/>
            <a:ext cx="45385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4T02:01:47Z</dcterms:modified>
  <cp:revision>10</cp:revision>
  <dc:subject/>
  <dc:title>Slide 1</dc:title>
</cp:coreProperties>
</file>