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E303-0E19-4062-97F8-54E351EE0B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*Taare- Karaki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*Mihi – Rock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*Objectives – Thinking Tools – Time for Action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Assuming – tch kids to think impt- thinking tools can assis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How can we use thinking tools enhance teaching and learning in our school/syndicate? Use this mtg make some ground with this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*Btw us lots of new content – Fragenheim/ Pohl/ Rochelle Williams/ Andrew Churches/ Tchs eXperiences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*Today –not about a whole lot more, pooling, sharing expertise in the room to construct sth useful to aid in the tch of thinking at this school.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We all got sth valuable to share – go round room – Eric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AA19-218C-46B4-9C59-C311440249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-Key Competencies and thinking Sk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-Blooms and thinking sk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-Inquiry and Thinking Sk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Where do we want to get to by end of this meeting?  What framework will we base this discussion on - Te Puna Scho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End of mtg: repertoire of tools that can assist at each s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D12F-7D79-4DB9-B6F8-957E7DAE2C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2A91-EFC1-4E8A-B1F6-D71AE4D9C7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Once we know the framework.  Ask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each level - What do we currently use? Think Pair Share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How can these be organised? – jnr /middle /sn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What else?   Look at other resources – think bag – Resource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helle williams/michael pohl /eric frageheim/think bag/andrew chur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06E3-FA48-4CF2-99F2-75F1F2AA4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Re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inking infu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Organisation of 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528E-B3FF-48B5-A7B8-D9C79303B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4214-F5CC-4576-A5B5-47D436D7D1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ED09-DCAF-4D0B-B20A-815035B6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48A8-7FDD-49C2-B2B4-7D1C3CB3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35A1-1131-442F-A3E0-F1130287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5B76-50B0-48F5-9A66-E0F0DCED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A2B0-BADC-4889-B191-ED119E4D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8B71-94D8-4FD7-B926-981EC28C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197E-DBD8-4854-B8AC-BF3BA074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9B14-0E1E-4AC3-BED8-C52FE3EE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F832-9289-414B-B031-F614E082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E9BA-885A-44DD-A358-30CAAF8C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AE3D-C631-488A-939D-584999B2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2F5D-27B1-4286-BE25-385F4510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710C-1D99-460D-960D-519BD117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19DB-656E-45B5-8C2C-4760D1AE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937B-599D-4DE0-BE09-71CED0E7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5FBC-5896-4D15-8D8E-7C4EC161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07FC-63BA-4BD3-A1B2-83427A68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2925-2DCC-4156-B539-100265CD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EE1C-257D-4FB6-BB80-606EC885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958E-E444-486D-BB3B-99642938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548F-EC40-4298-BF5A-BA09E8E4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ED5A-B5A6-4A84-88F3-47289C34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38A4-CBBE-496E-8233-00D3E6A1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1260-314D-4B9F-B6A6-91C44BF2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D791-619F-4E2A-8349-DC38A8995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2175-6204-4D94-BA40-7FA5EF871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ea.co.nz/thethinkbag/index.asp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785880" y="285840"/>
            <a:ext cx="75722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vantGarde Md BT"/>
              </a:rPr>
              <a:t>Thinking Tools – Time for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How can we use thinking tools to enh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teaching and learning in our sch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857160" y="928800"/>
            <a:ext cx="750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Which framework will we `hang’  thinking tools on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How does this framework compare with Bloom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Where do we want to get to by end of this me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 rot="786000">
            <a:off x="3498480" y="530280"/>
            <a:ext cx="2398680" cy="2152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3"/>
          <a:stretch/>
        </p:blipFill>
        <p:spPr>
          <a:xfrm rot="266400">
            <a:off x="6419880" y="41868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4"/>
          <a:stretch/>
        </p:blipFill>
        <p:spPr>
          <a:xfrm rot="20812800">
            <a:off x="949320" y="514080"/>
            <a:ext cx="1643040" cy="2263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5"/>
          <a:stretch/>
        </p:blipFill>
        <p:spPr>
          <a:xfrm rot="20722800">
            <a:off x="1571760" y="3499920"/>
            <a:ext cx="2800080" cy="2100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DSC02157.JPG"/>
          <p:cNvPicPr/>
          <p:nvPr/>
        </p:nvPicPr>
        <p:blipFill>
          <a:blip r:embed="rId6"/>
          <a:stretch/>
        </p:blipFill>
        <p:spPr>
          <a:xfrm rot="875400">
            <a:off x="5762160" y="3205080"/>
            <a:ext cx="242892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-3429360" y="1600200"/>
            <a:ext cx="1293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642960" y="642960"/>
            <a:ext cx="792972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vantGarde Md BT"/>
              </a:rPr>
              <a:t>For each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ich tools do we currently use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ich have we found to be effec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at other tools are we aware of that may enhance thinking at this level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at els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What needs to happen now to support transfer of this resource to the classro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7" descr="tools and units 3"/>
          <p:cNvPicPr/>
          <p:nvPr/>
        </p:nvPicPr>
        <p:blipFill>
          <a:blip r:embed="rId1"/>
          <a:stretch/>
        </p:blipFill>
        <p:spPr>
          <a:xfrm>
            <a:off x="108000" y="260280"/>
            <a:ext cx="4592520" cy="6121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tools and units"/>
          <p:cNvPicPr/>
          <p:nvPr/>
        </p:nvPicPr>
        <p:blipFill>
          <a:blip r:embed="rId2"/>
          <a:stretch/>
        </p:blipFill>
        <p:spPr>
          <a:xfrm>
            <a:off x="4572000" y="260280"/>
            <a:ext cx="4538520" cy="6048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09:36:31Z</dcterms:created>
  <dc:creator>rjensen</dc:creator>
  <dc:description/>
  <dc:language>en-US</dc:language>
  <cp:lastModifiedBy>rjensen</cp:lastModifiedBy>
  <dcterms:modified xsi:type="dcterms:W3CDTF">2008-06-24T02:01:47Z</dcterms:modified>
  <cp:revision>10</cp:revision>
  <dc:subject/>
  <dc:title>Slide 1</dc:title>
</cp:coreProperties>
</file>