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146A-1F3F-49DA-9F48-5B62AD44F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aare- Karaki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Mihi – Rock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Objectives – Thinking Tools – Time for A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Assuming – tch kids to think impt- thinking tools can ass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How can we use thinking tools enhance teaching and learning in our school/syndicate? Use this mtg make some ground with thi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Btw us lots of new content – Fragenheim/ Pohl/ Rochelle Williams/ Andrew Churches/ Tchs eXperiences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oday –not about a whole lot more, pooling, sharing expertise in the room to construct sth useful to aid in the tch of thinking at this school.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We all got sth valuable to share – go round room – Eric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629-D0F7-4049-928F-39B9AEA35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Key Competencie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Bloom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Inquiry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ere do we want to get to by end of this meeting?  What framework will we base this discussion on - Te Puna Scho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nd of mtg: repertoire of tools that can assist at each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C7A-1CC2-4409-89DD-262103FD8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14E-2BF4-453E-BF5C-1FA389F4B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nce we know the framework. 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ach level - What do we currently use? Think Pair Share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w can these be organised? – jnr /middle /sn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else?   Look at other resources – think bag – Resourc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helle williams/michael pohl /eric frageheim/think bag/andrew chu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FB5-7EA2-4DFD-9FF6-25C68FC0D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nking inf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rganisation of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D20-E33D-461E-97A0-C3B06E8E2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A055-D3FC-4681-B404-3066FF148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596-D4A9-4D26-91B9-BB0880D5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674-77AB-4937-AE4F-FA6DCE6F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E2C-8792-4E50-8E74-4E41B1C3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3E2-DE72-487E-8BCE-A3E6A3BF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4FB-7E15-4DE7-A1D5-7121064E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40C-3B80-45D3-9377-0A1A3B8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402D-B63E-4894-8436-B806AFA5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3B04-C755-407A-A104-7741BD6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91D-4B1D-450C-882C-052E1C64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754E-4261-41E9-B530-3A7BC810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A2D-35C5-4213-B630-0A862F1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28A-EAB7-4233-99C5-CFBE2B76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F8A9-12EC-407B-ABD6-516A69DC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725-BA05-43AE-A036-F78C19B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AB32-A576-4C2D-9DE2-35D446D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CFC-12D3-47F5-B0E4-D0D9FC86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103F-5B90-49A5-9A8A-469D5F97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7B4-2CB6-4DB4-B4B7-774F8BA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B1D-AF14-49A3-B327-25163E3D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861-B130-465B-BF97-7E53A10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A91-3F32-4094-9BD8-7B7BCCA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3B7-D4C8-46B9-8B84-5D74C80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65B-078C-424E-96B4-C45CE38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0D7-550B-4540-A5DD-D23B30C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C199-37A3-4664-8997-8BECBD985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45D5-5FFE-4776-8EAD-04366138F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498480" y="530280"/>
            <a:ext cx="239868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266400">
            <a:off x="641988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 rot="20722800">
            <a:off x="1571760" y="3499920"/>
            <a:ext cx="2800080" cy="21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157.JPG"/>
          <p:cNvPicPr/>
          <p:nvPr/>
        </p:nvPicPr>
        <p:blipFill>
          <a:blip r:embed="rId6"/>
          <a:stretch/>
        </p:blipFill>
        <p:spPr>
          <a:xfrm rot="875400">
            <a:off x="5762160" y="320508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tools and units 3"/>
          <p:cNvPicPr/>
          <p:nvPr/>
        </p:nvPicPr>
        <p:blipFill>
          <a:blip r:embed="rId1"/>
          <a:stretch/>
        </p:blipFill>
        <p:spPr>
          <a:xfrm>
            <a:off x="108000" y="260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tools and units"/>
          <p:cNvPicPr/>
          <p:nvPr/>
        </p:nvPicPr>
        <p:blipFill>
          <a:blip r:embed="rId2"/>
          <a:stretch/>
        </p:blipFill>
        <p:spPr>
          <a:xfrm>
            <a:off x="4572000" y="260280"/>
            <a:ext cx="45385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4T02:01:47Z</dcterms:modified>
  <cp:revision>10</cp:revision>
  <dc:subject/>
  <dc:title>Slide 1</dc:title>
</cp:coreProperties>
</file>