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973-F772-4071-AFC5-0388D941A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aare- Karaki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Mihi – Rock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Objectives – Thinking Tools – Time for A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Assuming – tch kids to think impt- thinking tools can assi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How can we use thinking tools enhance teaching and learning in our school/syndicate? Use this mtg make some ground with thi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Btw us lots of new content – Fragenheim/ Pohl/ Rochelle Williams/ Andrew Churches/ Tchs eXperiences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*Today –not about a whole lot more, pooling, sharing expertise in the room to construct sth useful to aid in the tch of thinking at this school.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" spc="-1" strike="noStrike">
                <a:solidFill>
                  <a:srgbClr val="000000"/>
                </a:solidFill>
                <a:latin typeface="Calibri"/>
              </a:rPr>
              <a:t>We all got sth valuable to share – go round room – Eric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C9C2-DB52-47A0-BF7A-F719148B0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Key Competencie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Blooms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-Inquiry and Think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ere do we want to get to by end of this meeting?  What framework will we base this discussion on - Te Puna Scho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nd of mtg: repertoire of tools that can assist at each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035-CCE2-4934-8F9D-30FABCD28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4EDB-139A-494D-8E55-E636D3E35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nce we know the framework.  Ask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ach level - What do we currently use? Think Pair Share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ow can these be organised? – jnr /middle /sn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else?   Look at other resources – think bag – Resourc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helle williams/michael pohl /eric frageheim/think bag/andrew chu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3CBB-F681-4D5E-847E-2C04BCC84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nking inf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rganisation of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B20-E090-47D4-9276-CE135EA6B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AB08-E674-4176-ABEB-6172F4BA8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8E0-9FEA-4B15-B2AC-3C322262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F12-8D95-4FF1-91BB-A4F142D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308-0231-4D42-83FE-6A676206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6B4-D632-4416-981A-70B16264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EA58-E154-46EC-B864-82D7D1DA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A498-0410-448C-876A-C272AE27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3DF-5E03-4A74-A87F-331D79C2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7DB3-9DF3-4AD8-ADCB-92D56681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D592-4524-4A41-8E90-2BCA0C2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702F-92AF-4507-9841-9A0016B0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4239-7863-4803-9052-2D4BE79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139-8807-4AAC-8F99-3B56250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AF01-1362-4B6E-9F01-6B44AC2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F4B6-928E-4C69-AFC1-E28F7C2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C8B9-6B68-46C3-8ACF-58FC50BD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C9A2-C8B2-4BB5-AF2B-65C52501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6268-530E-4BA3-B464-901A8A69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E97-D996-4506-80D9-E5B2A048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AA2-6F03-4E7D-A856-E81D147B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A72-1ABA-484A-AF2B-A02FC4EE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D9E-10F9-4080-B088-2200CCDD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EB0-AD12-4AC6-8EA8-208796F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6CF-9074-401A-B01C-D89C524B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D23-F850-4491-85CD-9EE6860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B1A2-4362-494F-95DF-53A876E4B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9AF1-B33F-4A4D-BD57-9BD5F51F2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.co.nz/thethinkbag/index.as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85880" y="285840"/>
            <a:ext cx="7572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vantGarde Md BT"/>
              </a:rPr>
              <a:t>Thinking Tools – Time fo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can we use thinking tools to enh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teaching and learning in our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57160" y="928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ich framework will we `hang’  thinking tools 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How does this framework compare with Bloo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vantGarde Md BT"/>
              </a:rPr>
              <a:t>Where do we want to get to by end of this me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6000">
            <a:off x="3498480" y="530280"/>
            <a:ext cx="239868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266400">
            <a:off x="6419880" y="418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 rot="20812800">
            <a:off x="949320" y="514080"/>
            <a:ext cx="164304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 rot="20722800">
            <a:off x="1571760" y="3499920"/>
            <a:ext cx="2800080" cy="21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157.JPG"/>
          <p:cNvPicPr/>
          <p:nvPr/>
        </p:nvPicPr>
        <p:blipFill>
          <a:blip r:embed="rId6"/>
          <a:stretch/>
        </p:blipFill>
        <p:spPr>
          <a:xfrm rot="875400">
            <a:off x="5762160" y="320508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429360" y="1600200"/>
            <a:ext cx="1293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642960" y="642960"/>
            <a:ext cx="792972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vantGarde Md BT"/>
              </a:rPr>
              <a:t>For each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tools do we currently us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ich have we found to be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other tools are we aware of that may enhance thinking at this leve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vantGarde Md BT"/>
              </a:rPr>
              <a:t>What el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needs to happen now to support transfer of this resource to the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429080" y="3443400"/>
            <a:ext cx="42861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tools and units 3"/>
          <p:cNvPicPr/>
          <p:nvPr/>
        </p:nvPicPr>
        <p:blipFill>
          <a:blip r:embed="rId1"/>
          <a:stretch/>
        </p:blipFill>
        <p:spPr>
          <a:xfrm>
            <a:off x="108000" y="260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tools and units"/>
          <p:cNvPicPr/>
          <p:nvPr/>
        </p:nvPicPr>
        <p:blipFill>
          <a:blip r:embed="rId2"/>
          <a:stretch/>
        </p:blipFill>
        <p:spPr>
          <a:xfrm>
            <a:off x="4572000" y="260280"/>
            <a:ext cx="45385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9:36:31Z</dcterms:created>
  <dc:creator>rjensen</dc:creator>
  <dc:description/>
  <dc:language>en-US</dc:language>
  <cp:lastModifiedBy>rjensen</cp:lastModifiedBy>
  <dcterms:modified xsi:type="dcterms:W3CDTF">2008-06-24T02:01:47Z</dcterms:modified>
  <cp:revision>10</cp:revision>
  <dc:subject/>
  <dc:title>Slide 1</dc:title>
</cp:coreProperties>
</file>