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18B5-8108-4C24-AB34-03813494B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Taare- Karaki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Mihi – Rock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Objectives – Thinking Tools – Time for Action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Assuming – tch kids to think impt- thinking tools can assis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How can we use thinking tools enhance teaching and learning in our school/syndicate? Use this mtg make some ground with this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Btw us lots of new content – Fragenheim/ Pohl/ Rochelle Williams/ Andrew Churches/ Tchs eXperiences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Today –not about a whole lot more, pooling, sharing expertise in the room to construct sth useful to aid in the tch of thinking at this school.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We all got sth valuable to share – go round room – Eric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AC14-7E53-432D-82E8-CEE5CEC54B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-Key Competencies and think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-Blooms and think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-Inquiry and Think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Where do we want to get to by end of this meeting?  What framework will we base this discussion on - Te Puna Scho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End of mtg: repertoire of tools that can assist at each s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1FD0-F139-4D15-A4E0-D4B359BEB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46AD-3B10-44D4-B746-1AF0464DD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Once we know the framework.  Ask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each level - What do we currently use? Think Pair Share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How can these be organised? – jnr /middle /sn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What else?   Look at other resources – think bag – Resource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helle williams/michael pohl /eric frageheim/think bag/andrew chur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F98A-390A-4BED-8100-882B36766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inking infu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Organisation of 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8518-7831-430E-B8FE-8A38A5E86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6BB2-1F26-4166-8C28-7E3ACCA92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B56D-39AB-479B-A6EF-0C792570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EC5-D8BA-461B-8DCC-6F5B251C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E776-8465-4E3E-80E7-AAB40FAE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528E-EE22-4449-A329-CC569CA7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F806-0133-4A9F-B681-036A0675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C627-F6BC-4DF0-91BC-44D5DA34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1AF8-1B24-455B-BC88-AD1328C5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F2BF-BB61-43DF-AE18-2C3D1FC1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D236-0480-4DC5-BB6A-86884B91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DDED-7289-4FF2-8A83-835EB212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3ECF-0848-4AAE-8CAD-C8BF00D0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AB22-1CCB-4B7C-94D7-A1ACA644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3B25-A96C-4AC3-9DDD-8927B6FB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61C5-2293-4856-A03D-E534B908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7897-04AA-417D-98A1-3312D138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82F1-B105-4251-B8EB-54F1C9DD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EC5B-CCBD-4E9E-B6A9-6E0F09E5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D920-F07B-4E5E-8127-8C609017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7729-A7C9-4243-9DFA-55180F74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A278-E00C-473B-87B5-9BCB3D75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9C0D-0166-462A-99E4-E743AAD8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A0EC-0531-459A-9F89-63590FEB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D9CF-CF4F-4F9C-8616-90A9279F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DFF9-02D4-48A2-BEE0-1F3B2748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2CE8-8318-43CD-A6B7-E2130F3CE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B3A5-6D62-4568-9487-4B9DAC08C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ea.co.nz/thethinkbag/index.asp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785880" y="285840"/>
            <a:ext cx="75722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vantGarde Md BT"/>
              </a:rPr>
              <a:t>Thinking Tools – Time for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How can we use thinking tools to enh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teaching and learning in our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857160" y="928800"/>
            <a:ext cx="750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Which framework will we `hang’  thinking tools on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How does this framework compare with Bloom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Where do we want to get to by end of this me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 rot="786000">
            <a:off x="3498480" y="530280"/>
            <a:ext cx="2398680" cy="2152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 rot="266400">
            <a:off x="6419880" y="41868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4"/>
          <a:stretch/>
        </p:blipFill>
        <p:spPr>
          <a:xfrm rot="20812800">
            <a:off x="949320" y="514080"/>
            <a:ext cx="1643040" cy="2263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5"/>
          <a:stretch/>
        </p:blipFill>
        <p:spPr>
          <a:xfrm rot="20722800">
            <a:off x="1571760" y="3499920"/>
            <a:ext cx="2800080" cy="2100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DSC02157.JPG"/>
          <p:cNvPicPr/>
          <p:nvPr/>
        </p:nvPicPr>
        <p:blipFill>
          <a:blip r:embed="rId6"/>
          <a:stretch/>
        </p:blipFill>
        <p:spPr>
          <a:xfrm rot="875400">
            <a:off x="5762160" y="3205080"/>
            <a:ext cx="242892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-3429360" y="1600200"/>
            <a:ext cx="1293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642960" y="642960"/>
            <a:ext cx="792972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vantGarde Md BT"/>
              </a:rPr>
              <a:t>For each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ich tools do we currently use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ich have we found to be effec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at other tools are we aware of that may enhance thinking at this level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at els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What needs to happen now to support transfer of this resource to the classro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7" descr="tools and units 3"/>
          <p:cNvPicPr/>
          <p:nvPr/>
        </p:nvPicPr>
        <p:blipFill>
          <a:blip r:embed="rId1"/>
          <a:stretch/>
        </p:blipFill>
        <p:spPr>
          <a:xfrm>
            <a:off x="108000" y="260280"/>
            <a:ext cx="4592520" cy="6121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tools and units"/>
          <p:cNvPicPr/>
          <p:nvPr/>
        </p:nvPicPr>
        <p:blipFill>
          <a:blip r:embed="rId2"/>
          <a:stretch/>
        </p:blipFill>
        <p:spPr>
          <a:xfrm>
            <a:off x="4572000" y="260280"/>
            <a:ext cx="4538520" cy="6048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09:36:31Z</dcterms:created>
  <dc:creator>rjensen</dc:creator>
  <dc:description/>
  <dc:language>en-US</dc:language>
  <cp:lastModifiedBy>rjensen</cp:lastModifiedBy>
  <dcterms:modified xsi:type="dcterms:W3CDTF">2008-06-24T02:01:47Z</dcterms:modified>
  <cp:revision>10</cp:revision>
  <dc:subject/>
  <dc:title>Slide 1</dc:title>
</cp:coreProperties>
</file>